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036-AFC9-4548-A50B-7C1BB7A4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15F-243A-4110-A9A8-F0C8C4C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8D7-CD87-45A8-8373-C6F550ED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FED-55C7-4720-BFF8-8F322CF1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ECC7-0C3A-4C3A-951F-ECBB425C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0B7-0DC9-425E-B160-BF7828CF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BD71-2D17-4CFB-AD5A-2FBFE479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29EC-B259-4D32-830A-2BB5CE90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1703-FE95-4DD0-888E-7104A686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FCAC-9123-4319-8CE4-2496D483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B508-AEF7-414A-A71D-443FEF0C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CDA-F687-4B9F-BB88-A9AE7F9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0CF4-0B2A-4165-8152-D6488E4C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F681-0566-4AC7-9E3C-CCAFC5C7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2124-62F0-49D7-BDD4-D9E66CB0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2D76-2779-484A-9F45-CD941BB2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BC94-D894-4FEE-8A78-A2EEED4D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0CC-31EA-492F-B76B-D2E6BB1A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55F-43D3-4DE0-870C-721E0D63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F62-2FC7-450E-8676-501EAE92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314-5941-499E-9072-8C8283B8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25B-7C3F-46DB-9FA8-3A24B18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B07-DC36-44D4-9D81-5DB38CC1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0A4-7227-420B-B21F-681478C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665A-B49B-4BB2-9405-6D9B573841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8F98-64D3-49E4-82B4-4D59912927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  MSA Review Day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:  Students will create and interpret frequency tab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2955960" y="4724280"/>
            <a:ext cx="3224160" cy="88920"/>
          </a:xfrm>
          <a:custGeom>
            <a:avLst/>
            <a:gdLst/>
            <a:ahLst/>
            <a:rect l="l" t="t" r="r" b="b"/>
            <a:pathLst>
              <a:path w="8956" h="249">
                <a:moveTo>
                  <a:pt x="8210" y="13370"/>
                </a:moveTo>
                <a:cubicBezTo>
                  <a:pt x="8227" y="13368"/>
                  <a:pt x="8378" y="13351"/>
                  <a:pt x="8434" y="13345"/>
                </a:cubicBezTo>
                <a:cubicBezTo>
                  <a:pt x="8571" y="13331"/>
                  <a:pt x="8675" y="13341"/>
                  <a:pt x="8806" y="13345"/>
                </a:cubicBezTo>
                <a:cubicBezTo>
                  <a:pt x="8909" y="13348"/>
                  <a:pt x="9002" y="13365"/>
                  <a:pt x="9103" y="13370"/>
                </a:cubicBezTo>
                <a:cubicBezTo>
                  <a:pt x="9415" y="13385"/>
                  <a:pt x="9739" y="13380"/>
                  <a:pt x="10046" y="13345"/>
                </a:cubicBezTo>
                <a:cubicBezTo>
                  <a:pt x="10179" y="13330"/>
                  <a:pt x="10311" y="13310"/>
                  <a:pt x="10443" y="13295"/>
                </a:cubicBezTo>
                <a:cubicBezTo>
                  <a:pt x="10640" y="13272"/>
                  <a:pt x="10839" y="13264"/>
                  <a:pt x="11038" y="13246"/>
                </a:cubicBezTo>
                <a:cubicBezTo>
                  <a:pt x="11195" y="13232"/>
                  <a:pt x="11352" y="13211"/>
                  <a:pt x="11509" y="13196"/>
                </a:cubicBezTo>
                <a:cubicBezTo>
                  <a:pt x="11724" y="13175"/>
                  <a:pt x="11940" y="13168"/>
                  <a:pt x="12154" y="13146"/>
                </a:cubicBezTo>
                <a:cubicBezTo>
                  <a:pt x="12378" y="13123"/>
                  <a:pt x="12598" y="13122"/>
                  <a:pt x="12824" y="13122"/>
                </a:cubicBezTo>
                <a:cubicBezTo>
                  <a:pt x="13002" y="13122"/>
                  <a:pt x="13170" y="13131"/>
                  <a:pt x="13345" y="13146"/>
                </a:cubicBezTo>
                <a:cubicBezTo>
                  <a:pt x="13511" y="13160"/>
                  <a:pt x="13675" y="13161"/>
                  <a:pt x="13841" y="13171"/>
                </a:cubicBezTo>
                <a:cubicBezTo>
                  <a:pt x="14062" y="13185"/>
                  <a:pt x="14289" y="13203"/>
                  <a:pt x="14511" y="13221"/>
                </a:cubicBezTo>
                <a:cubicBezTo>
                  <a:pt x="14850" y="13248"/>
                  <a:pt x="15188" y="13268"/>
                  <a:pt x="15528" y="13271"/>
                </a:cubicBezTo>
                <a:cubicBezTo>
                  <a:pt x="15844" y="13274"/>
                  <a:pt x="16156" y="13281"/>
                  <a:pt x="16470" y="13295"/>
                </a:cubicBezTo>
                <a:cubicBezTo>
                  <a:pt x="16632" y="13302"/>
                  <a:pt x="16789" y="13290"/>
                  <a:pt x="16942" y="13271"/>
                </a:cubicBezTo>
                <a:cubicBezTo>
                  <a:pt x="16994" y="13265"/>
                  <a:pt x="17069" y="13245"/>
                  <a:pt x="17115" y="13246"/>
                </a:cubicBezTo>
                <a:cubicBezTo>
                  <a:pt x="17143" y="13246"/>
                  <a:pt x="17154" y="13248"/>
                  <a:pt x="17165" y="1327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tabl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s the number of times each item occurs in a set of dat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769080" y="4303800"/>
            <a:ext cx="1482840" cy="277560"/>
          </a:xfrm>
          <a:custGeom>
            <a:avLst/>
            <a:gdLst/>
            <a:ahLst/>
            <a:rect l="l" t="t" r="r" b="b"/>
            <a:pathLst>
              <a:path w="4119" h="770">
                <a:moveTo>
                  <a:pt x="18802" y="12154"/>
                </a:moveTo>
                <a:lnTo>
                  <a:pt x="18802" y="12154"/>
                </a:lnTo>
                <a:lnTo>
                  <a:pt x="18802" y="12154"/>
                </a:lnTo>
              </a:path>
              <a:path w="4119" h="770">
                <a:moveTo>
                  <a:pt x="18802" y="12154"/>
                </a:moveTo>
                <a:lnTo>
                  <a:pt x="18802" y="12154"/>
                </a:lnTo>
              </a:path>
              <a:path w="4119" h="770">
                <a:moveTo>
                  <a:pt x="22721" y="11956"/>
                </a:moveTo>
                <a:cubicBezTo>
                  <a:pt x="22816" y="12179"/>
                  <a:pt x="22890" y="12406"/>
                  <a:pt x="22920" y="12650"/>
                </a:cubicBezTo>
                <a:cubicBezTo>
                  <a:pt x="22920" y="12675"/>
                  <a:pt x="22920" y="12700"/>
                  <a:pt x="22920" y="1272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05160" y="4456080"/>
            <a:ext cx="268560" cy="303120"/>
          </a:xfrm>
          <a:custGeom>
            <a:avLst/>
            <a:gdLst/>
            <a:ahLst/>
            <a:rect l="l" t="t" r="r" b="b"/>
            <a:pathLst>
              <a:path w="745" h="844">
                <a:moveTo>
                  <a:pt x="12278" y="12700"/>
                </a:moveTo>
                <a:cubicBezTo>
                  <a:pt x="12358" y="12673"/>
                  <a:pt x="12212" y="12510"/>
                  <a:pt x="12179" y="12477"/>
                </a:cubicBezTo>
                <a:cubicBezTo>
                  <a:pt x="12107" y="12405"/>
                  <a:pt x="12062" y="12360"/>
                  <a:pt x="11956" y="12378"/>
                </a:cubicBezTo>
                <a:cubicBezTo>
                  <a:pt x="11750" y="12413"/>
                  <a:pt x="11690" y="12506"/>
                  <a:pt x="11683" y="12700"/>
                </a:cubicBezTo>
                <a:cubicBezTo>
                  <a:pt x="11677" y="12858"/>
                  <a:pt x="11669" y="13101"/>
                  <a:pt x="11832" y="13196"/>
                </a:cubicBezTo>
                <a:cubicBezTo>
                  <a:pt x="11985" y="13285"/>
                  <a:pt x="12128" y="13137"/>
                  <a:pt x="12204" y="13022"/>
                </a:cubicBezTo>
                <a:cubicBezTo>
                  <a:pt x="12299" y="12878"/>
                  <a:pt x="12224" y="12798"/>
                  <a:pt x="12204" y="12650"/>
                </a:cubicBezTo>
                <a:cubicBezTo>
                  <a:pt x="12204" y="12592"/>
                  <a:pt x="12204" y="12584"/>
                  <a:pt x="12204" y="12551"/>
                </a:cubicBezTo>
                <a:cubicBezTo>
                  <a:pt x="12236" y="12679"/>
                  <a:pt x="12292" y="12829"/>
                  <a:pt x="12353" y="12948"/>
                </a:cubicBezTo>
                <a:cubicBezTo>
                  <a:pt x="12392" y="13007"/>
                  <a:pt x="12396" y="13019"/>
                  <a:pt x="12427" y="1304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49840" y="4429080"/>
            <a:ext cx="768240" cy="374760"/>
          </a:xfrm>
          <a:custGeom>
            <a:avLst/>
            <a:gdLst/>
            <a:ahLst/>
            <a:rect l="l" t="t" r="r" b="b"/>
            <a:pathLst>
              <a:path w="2134" h="1043">
                <a:moveTo>
                  <a:pt x="13196" y="12353"/>
                </a:moveTo>
                <a:cubicBezTo>
                  <a:pt x="13275" y="12471"/>
                  <a:pt x="13351" y="12638"/>
                  <a:pt x="13395" y="12774"/>
                </a:cubicBezTo>
                <a:cubicBezTo>
                  <a:pt x="13413" y="12868"/>
                  <a:pt x="13400" y="12888"/>
                  <a:pt x="13444" y="12923"/>
                </a:cubicBezTo>
                <a:cubicBezTo>
                  <a:pt x="13477" y="12727"/>
                  <a:pt x="13512" y="12560"/>
                  <a:pt x="13593" y="12378"/>
                </a:cubicBezTo>
                <a:cubicBezTo>
                  <a:pt x="13644" y="12548"/>
                  <a:pt x="13720" y="12722"/>
                  <a:pt x="13816" y="12874"/>
                </a:cubicBezTo>
                <a:cubicBezTo>
                  <a:pt x="13838" y="12909"/>
                  <a:pt x="13836" y="12913"/>
                  <a:pt x="13866" y="12923"/>
                </a:cubicBezTo>
                <a:cubicBezTo>
                  <a:pt x="13885" y="12735"/>
                  <a:pt x="13916" y="12536"/>
                  <a:pt x="13965" y="12353"/>
                </a:cubicBezTo>
                <a:cubicBezTo>
                  <a:pt x="13973" y="12336"/>
                  <a:pt x="13982" y="12320"/>
                  <a:pt x="13990" y="12303"/>
                </a:cubicBezTo>
              </a:path>
              <a:path w="2134" h="1043">
                <a:moveTo>
                  <a:pt x="14560" y="12526"/>
                </a:moveTo>
                <a:cubicBezTo>
                  <a:pt x="14510" y="12434"/>
                  <a:pt x="14481" y="12363"/>
                  <a:pt x="14337" y="12402"/>
                </a:cubicBezTo>
                <a:cubicBezTo>
                  <a:pt x="14113" y="12463"/>
                  <a:pt x="14102" y="12591"/>
                  <a:pt x="14064" y="12774"/>
                </a:cubicBezTo>
                <a:cubicBezTo>
                  <a:pt x="14254" y="12870"/>
                  <a:pt x="14452" y="12931"/>
                  <a:pt x="14511" y="12650"/>
                </a:cubicBezTo>
                <a:cubicBezTo>
                  <a:pt x="14511" y="12572"/>
                  <a:pt x="14526" y="12554"/>
                  <a:pt x="14486" y="12526"/>
                </a:cubicBezTo>
                <a:cubicBezTo>
                  <a:pt x="14534" y="12629"/>
                  <a:pt x="14578" y="12859"/>
                  <a:pt x="14734" y="12824"/>
                </a:cubicBezTo>
                <a:cubicBezTo>
                  <a:pt x="14906" y="12786"/>
                  <a:pt x="14871" y="12633"/>
                  <a:pt x="14883" y="12502"/>
                </a:cubicBezTo>
                <a:cubicBezTo>
                  <a:pt x="14883" y="12263"/>
                  <a:pt x="14897" y="12621"/>
                  <a:pt x="14957" y="12700"/>
                </a:cubicBezTo>
                <a:cubicBezTo>
                  <a:pt x="15133" y="12930"/>
                  <a:pt x="15277" y="12668"/>
                  <a:pt x="15304" y="12502"/>
                </a:cubicBezTo>
                <a:cubicBezTo>
                  <a:pt x="15304" y="12391"/>
                  <a:pt x="15330" y="12369"/>
                  <a:pt x="15280" y="12328"/>
                </a:cubicBezTo>
                <a:cubicBezTo>
                  <a:pt x="15307" y="12514"/>
                  <a:pt x="15315" y="12706"/>
                  <a:pt x="15304" y="12898"/>
                </a:cubicBezTo>
                <a:cubicBezTo>
                  <a:pt x="15294" y="13083"/>
                  <a:pt x="15283" y="13172"/>
                  <a:pt x="15329" y="1334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13280" y="4259160"/>
            <a:ext cx="446400" cy="349200"/>
          </a:xfrm>
          <a:custGeom>
            <a:avLst/>
            <a:gdLst/>
            <a:ahLst/>
            <a:rect l="l" t="t" r="r" b="b"/>
            <a:pathLst>
              <a:path w="1241" h="968">
                <a:moveTo>
                  <a:pt x="16446" y="11832"/>
                </a:moveTo>
                <a:cubicBezTo>
                  <a:pt x="16552" y="12047"/>
                  <a:pt x="16590" y="12334"/>
                  <a:pt x="16619" y="12576"/>
                </a:cubicBezTo>
                <a:cubicBezTo>
                  <a:pt x="16619" y="12675"/>
                  <a:pt x="16619" y="12692"/>
                  <a:pt x="16619" y="12750"/>
                </a:cubicBezTo>
              </a:path>
              <a:path w="1241" h="968">
                <a:moveTo>
                  <a:pt x="16148" y="12278"/>
                </a:moveTo>
                <a:cubicBezTo>
                  <a:pt x="16449" y="12269"/>
                  <a:pt x="16743" y="12242"/>
                  <a:pt x="17041" y="12278"/>
                </a:cubicBezTo>
                <a:cubicBezTo>
                  <a:pt x="17007" y="12410"/>
                  <a:pt x="16901" y="12621"/>
                  <a:pt x="17016" y="12750"/>
                </a:cubicBezTo>
                <a:cubicBezTo>
                  <a:pt x="17175" y="12930"/>
                  <a:pt x="17450" y="12665"/>
                  <a:pt x="17388" y="12477"/>
                </a:cubicBezTo>
                <a:cubicBezTo>
                  <a:pt x="17344" y="12345"/>
                  <a:pt x="17222" y="12327"/>
                  <a:pt x="17115" y="1227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56240" y="4259160"/>
            <a:ext cx="1366920" cy="669960"/>
          </a:xfrm>
          <a:custGeom>
            <a:avLst/>
            <a:gdLst/>
            <a:ahLst/>
            <a:rect l="l" t="t" r="r" b="b"/>
            <a:pathLst>
              <a:path w="3796" h="1861">
                <a:moveTo>
                  <a:pt x="18430" y="12427"/>
                </a:moveTo>
                <a:cubicBezTo>
                  <a:pt x="18461" y="12458"/>
                  <a:pt x="18380" y="12251"/>
                  <a:pt x="18231" y="12278"/>
                </a:cubicBezTo>
                <a:cubicBezTo>
                  <a:pt x="18048" y="12312"/>
                  <a:pt x="17819" y="12680"/>
                  <a:pt x="18008" y="12824"/>
                </a:cubicBezTo>
                <a:cubicBezTo>
                  <a:pt x="18282" y="13033"/>
                  <a:pt x="18425" y="12709"/>
                  <a:pt x="18455" y="12526"/>
                </a:cubicBezTo>
              </a:path>
              <a:path w="3796" h="1861">
                <a:moveTo>
                  <a:pt x="18231" y="11832"/>
                </a:moveTo>
                <a:cubicBezTo>
                  <a:pt x="18361" y="12076"/>
                  <a:pt x="18422" y="12355"/>
                  <a:pt x="18479" y="12626"/>
                </a:cubicBezTo>
                <a:cubicBezTo>
                  <a:pt x="18497" y="12709"/>
                  <a:pt x="18505" y="12849"/>
                  <a:pt x="18529" y="12849"/>
                </a:cubicBezTo>
              </a:path>
              <a:path w="3796" h="1861">
                <a:moveTo>
                  <a:pt x="18728" y="12378"/>
                </a:moveTo>
                <a:cubicBezTo>
                  <a:pt x="18750" y="12446"/>
                  <a:pt x="18803" y="12825"/>
                  <a:pt x="18852" y="12849"/>
                </a:cubicBezTo>
                <a:cubicBezTo>
                  <a:pt x="18852" y="12832"/>
                  <a:pt x="18852" y="12816"/>
                  <a:pt x="18852" y="12799"/>
                </a:cubicBezTo>
              </a:path>
              <a:path w="3796" h="1861">
                <a:moveTo>
                  <a:pt x="19248" y="12254"/>
                </a:moveTo>
                <a:cubicBezTo>
                  <a:pt x="19156" y="12303"/>
                  <a:pt x="19110" y="12323"/>
                  <a:pt x="19050" y="12402"/>
                </a:cubicBezTo>
                <a:cubicBezTo>
                  <a:pt x="19150" y="12460"/>
                  <a:pt x="19344" y="12426"/>
                  <a:pt x="19397" y="12551"/>
                </a:cubicBezTo>
                <a:cubicBezTo>
                  <a:pt x="19473" y="12729"/>
                  <a:pt x="19164" y="12838"/>
                  <a:pt x="19050" y="12750"/>
                </a:cubicBezTo>
                <a:cubicBezTo>
                  <a:pt x="19042" y="12725"/>
                  <a:pt x="19033" y="12700"/>
                  <a:pt x="19025" y="12675"/>
                </a:cubicBezTo>
              </a:path>
              <a:path w="3796" h="1861">
                <a:moveTo>
                  <a:pt x="19521" y="12452"/>
                </a:moveTo>
                <a:cubicBezTo>
                  <a:pt x="19537" y="12527"/>
                  <a:pt x="19690" y="13136"/>
                  <a:pt x="19621" y="13171"/>
                </a:cubicBezTo>
                <a:cubicBezTo>
                  <a:pt x="19613" y="13146"/>
                  <a:pt x="19604" y="13122"/>
                  <a:pt x="19596" y="13097"/>
                </a:cubicBezTo>
                <a:cubicBezTo>
                  <a:pt x="19563" y="12847"/>
                  <a:pt x="19461" y="12410"/>
                  <a:pt x="19819" y="12328"/>
                </a:cubicBezTo>
                <a:cubicBezTo>
                  <a:pt x="19869" y="12336"/>
                  <a:pt x="19918" y="12345"/>
                  <a:pt x="19968" y="12353"/>
                </a:cubicBezTo>
                <a:cubicBezTo>
                  <a:pt x="20045" y="12624"/>
                  <a:pt x="20075" y="12806"/>
                  <a:pt x="19720" y="12799"/>
                </a:cubicBezTo>
                <a:cubicBezTo>
                  <a:pt x="19612" y="12777"/>
                  <a:pt x="19576" y="12784"/>
                  <a:pt x="19571" y="12700"/>
                </a:cubicBezTo>
              </a:path>
              <a:path w="3796" h="1861">
                <a:moveTo>
                  <a:pt x="20166" y="12105"/>
                </a:moveTo>
                <a:cubicBezTo>
                  <a:pt x="20274" y="12339"/>
                  <a:pt x="20323" y="12564"/>
                  <a:pt x="20340" y="12824"/>
                </a:cubicBezTo>
                <a:cubicBezTo>
                  <a:pt x="20340" y="12852"/>
                  <a:pt x="20342" y="12863"/>
                  <a:pt x="20365" y="12874"/>
                </a:cubicBezTo>
              </a:path>
              <a:path w="3796" h="1861">
                <a:moveTo>
                  <a:pt x="21034" y="12675"/>
                </a:moveTo>
                <a:cubicBezTo>
                  <a:pt x="20960" y="12514"/>
                  <a:pt x="20884" y="12389"/>
                  <a:pt x="20687" y="12502"/>
                </a:cubicBezTo>
                <a:cubicBezTo>
                  <a:pt x="20509" y="12604"/>
                  <a:pt x="20522" y="12846"/>
                  <a:pt x="20762" y="12824"/>
                </a:cubicBezTo>
                <a:cubicBezTo>
                  <a:pt x="20919" y="12810"/>
                  <a:pt x="20918" y="12716"/>
                  <a:pt x="20935" y="12601"/>
                </a:cubicBezTo>
                <a:cubicBezTo>
                  <a:pt x="20964" y="12656"/>
                  <a:pt x="21031" y="12865"/>
                  <a:pt x="21158" y="12774"/>
                </a:cubicBezTo>
                <a:cubicBezTo>
                  <a:pt x="21200" y="12692"/>
                  <a:pt x="21208" y="12675"/>
                  <a:pt x="21233" y="12626"/>
                </a:cubicBezTo>
                <a:cubicBezTo>
                  <a:pt x="21256" y="12694"/>
                  <a:pt x="21246" y="12735"/>
                  <a:pt x="21307" y="12774"/>
                </a:cubicBezTo>
                <a:cubicBezTo>
                  <a:pt x="21383" y="12822"/>
                  <a:pt x="21585" y="12810"/>
                  <a:pt x="21605" y="12700"/>
                </a:cubicBezTo>
                <a:cubicBezTo>
                  <a:pt x="21605" y="12609"/>
                  <a:pt x="21605" y="12584"/>
                  <a:pt x="21605" y="12526"/>
                </a:cubicBezTo>
                <a:cubicBezTo>
                  <a:pt x="21605" y="12650"/>
                  <a:pt x="21619" y="12725"/>
                  <a:pt x="21630" y="12849"/>
                </a:cubicBezTo>
                <a:cubicBezTo>
                  <a:pt x="21655" y="13123"/>
                  <a:pt x="21688" y="13398"/>
                  <a:pt x="21729" y="13667"/>
                </a:cubicBezTo>
                <a:cubicBezTo>
                  <a:pt x="21729" y="13692"/>
                  <a:pt x="21729" y="13700"/>
                  <a:pt x="21729" y="1366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99280" y="4295880"/>
            <a:ext cx="857520" cy="312480"/>
          </a:xfrm>
          <a:custGeom>
            <a:avLst/>
            <a:gdLst/>
            <a:ahLst/>
            <a:rect l="l" t="t" r="r" b="b"/>
            <a:pathLst>
              <a:path w="2382" h="869">
                <a:moveTo>
                  <a:pt x="22796" y="12601"/>
                </a:moveTo>
                <a:cubicBezTo>
                  <a:pt x="22865" y="12573"/>
                  <a:pt x="22914" y="12499"/>
                  <a:pt x="22845" y="12427"/>
                </a:cubicBezTo>
                <a:cubicBezTo>
                  <a:pt x="22734" y="12310"/>
                  <a:pt x="22516" y="12432"/>
                  <a:pt x="22498" y="12576"/>
                </a:cubicBezTo>
                <a:cubicBezTo>
                  <a:pt x="22481" y="12712"/>
                  <a:pt x="22681" y="12904"/>
                  <a:pt x="22796" y="12750"/>
                </a:cubicBezTo>
                <a:cubicBezTo>
                  <a:pt x="22812" y="12700"/>
                  <a:pt x="22829" y="12651"/>
                  <a:pt x="22845" y="12601"/>
                </a:cubicBezTo>
              </a:path>
              <a:path w="2382" h="869">
                <a:moveTo>
                  <a:pt x="23391" y="12477"/>
                </a:moveTo>
                <a:cubicBezTo>
                  <a:pt x="23391" y="12393"/>
                  <a:pt x="23389" y="12359"/>
                  <a:pt x="23366" y="12303"/>
                </a:cubicBezTo>
                <a:cubicBezTo>
                  <a:pt x="23198" y="12277"/>
                  <a:pt x="23029" y="12349"/>
                  <a:pt x="22994" y="12551"/>
                </a:cubicBezTo>
                <a:cubicBezTo>
                  <a:pt x="23002" y="12601"/>
                  <a:pt x="23011" y="12650"/>
                  <a:pt x="23019" y="12700"/>
                </a:cubicBezTo>
                <a:cubicBezTo>
                  <a:pt x="23254" y="12732"/>
                  <a:pt x="23289" y="12679"/>
                  <a:pt x="23316" y="12452"/>
                </a:cubicBezTo>
                <a:cubicBezTo>
                  <a:pt x="23316" y="12444"/>
                  <a:pt x="23316" y="12435"/>
                  <a:pt x="23316" y="12427"/>
                </a:cubicBezTo>
                <a:cubicBezTo>
                  <a:pt x="23398" y="12577"/>
                  <a:pt x="23435" y="12675"/>
                  <a:pt x="23614" y="12700"/>
                </a:cubicBezTo>
                <a:cubicBezTo>
                  <a:pt x="23778" y="12723"/>
                  <a:pt x="23772" y="12650"/>
                  <a:pt x="23837" y="12526"/>
                </a:cubicBezTo>
              </a:path>
              <a:path w="2382" h="869">
                <a:moveTo>
                  <a:pt x="23763" y="11931"/>
                </a:moveTo>
                <a:cubicBezTo>
                  <a:pt x="23763" y="12113"/>
                  <a:pt x="23809" y="12297"/>
                  <a:pt x="23837" y="12477"/>
                </a:cubicBezTo>
                <a:cubicBezTo>
                  <a:pt x="23839" y="12487"/>
                  <a:pt x="23874" y="12802"/>
                  <a:pt x="23912" y="12725"/>
                </a:cubicBezTo>
              </a:path>
              <a:path w="2382" h="869">
                <a:moveTo>
                  <a:pt x="23515" y="12229"/>
                </a:moveTo>
                <a:cubicBezTo>
                  <a:pt x="23755" y="12269"/>
                  <a:pt x="23990" y="12249"/>
                  <a:pt x="24234" y="12229"/>
                </a:cubicBezTo>
                <a:cubicBezTo>
                  <a:pt x="24242" y="12229"/>
                  <a:pt x="24251" y="12229"/>
                  <a:pt x="24259" y="12229"/>
                </a:cubicBezTo>
              </a:path>
              <a:path w="2382" h="869">
                <a:moveTo>
                  <a:pt x="24507" y="12378"/>
                </a:moveTo>
                <a:cubicBezTo>
                  <a:pt x="24555" y="12318"/>
                  <a:pt x="24550" y="12325"/>
                  <a:pt x="24532" y="12254"/>
                </a:cubicBezTo>
                <a:cubicBezTo>
                  <a:pt x="24421" y="12217"/>
                  <a:pt x="24288" y="12342"/>
                  <a:pt x="24234" y="12452"/>
                </a:cubicBezTo>
                <a:cubicBezTo>
                  <a:pt x="24124" y="12677"/>
                  <a:pt x="24357" y="12689"/>
                  <a:pt x="24482" y="12576"/>
                </a:cubicBezTo>
                <a:cubicBezTo>
                  <a:pt x="24548" y="12489"/>
                  <a:pt x="24568" y="12471"/>
                  <a:pt x="24581" y="12402"/>
                </a:cubicBezTo>
                <a:cubicBezTo>
                  <a:pt x="24609" y="12513"/>
                  <a:pt x="24737" y="12496"/>
                  <a:pt x="24829" y="12502"/>
                </a:cubicBezTo>
                <a:cubicBezTo>
                  <a:pt x="24846" y="12502"/>
                  <a:pt x="24862" y="12502"/>
                  <a:pt x="24879" y="1250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8960" y="4732200"/>
            <a:ext cx="6037200" cy="581040"/>
          </a:xfrm>
          <a:custGeom>
            <a:avLst/>
            <a:gdLst/>
            <a:ahLst/>
            <a:rect l="l" t="t" r="r" b="b"/>
            <a:pathLst>
              <a:path w="16769" h="1614">
                <a:moveTo>
                  <a:pt x="9227" y="14610"/>
                </a:moveTo>
                <a:cubicBezTo>
                  <a:pt x="9298" y="14619"/>
                  <a:pt x="9389" y="14633"/>
                  <a:pt x="9475" y="14635"/>
                </a:cubicBezTo>
                <a:cubicBezTo>
                  <a:pt x="9817" y="14641"/>
                  <a:pt x="10153" y="14615"/>
                  <a:pt x="10492" y="14610"/>
                </a:cubicBezTo>
                <a:cubicBezTo>
                  <a:pt x="10577" y="14609"/>
                  <a:pt x="10663" y="14631"/>
                  <a:pt x="10740" y="14635"/>
                </a:cubicBezTo>
                <a:cubicBezTo>
                  <a:pt x="10844" y="14640"/>
                  <a:pt x="10937" y="14646"/>
                  <a:pt x="11038" y="14660"/>
                </a:cubicBezTo>
                <a:cubicBezTo>
                  <a:pt x="11129" y="14672"/>
                  <a:pt x="11219" y="14673"/>
                  <a:pt x="11311" y="14684"/>
                </a:cubicBezTo>
                <a:cubicBezTo>
                  <a:pt x="11403" y="14695"/>
                  <a:pt x="11493" y="14697"/>
                  <a:pt x="11584" y="14709"/>
                </a:cubicBezTo>
                <a:cubicBezTo>
                  <a:pt x="11733" y="14729"/>
                  <a:pt x="11879" y="14753"/>
                  <a:pt x="12030" y="14759"/>
                </a:cubicBezTo>
                <a:cubicBezTo>
                  <a:pt x="12289" y="14770"/>
                  <a:pt x="12544" y="14744"/>
                  <a:pt x="12799" y="14734"/>
                </a:cubicBezTo>
                <a:cubicBezTo>
                  <a:pt x="13451" y="14710"/>
                  <a:pt x="14112" y="14743"/>
                  <a:pt x="14759" y="14709"/>
                </a:cubicBezTo>
                <a:cubicBezTo>
                  <a:pt x="14928" y="14700"/>
                  <a:pt x="15090" y="14738"/>
                  <a:pt x="15255" y="14734"/>
                </a:cubicBezTo>
                <a:cubicBezTo>
                  <a:pt x="15426" y="14729"/>
                  <a:pt x="15603" y="14679"/>
                  <a:pt x="15776" y="14684"/>
                </a:cubicBezTo>
                <a:cubicBezTo>
                  <a:pt x="15919" y="14688"/>
                  <a:pt x="16028" y="14695"/>
                  <a:pt x="16173" y="14684"/>
                </a:cubicBezTo>
                <a:cubicBezTo>
                  <a:pt x="16372" y="14669"/>
                  <a:pt x="16567" y="14660"/>
                  <a:pt x="16768" y="14660"/>
                </a:cubicBezTo>
                <a:cubicBezTo>
                  <a:pt x="17000" y="14660"/>
                  <a:pt x="17229" y="14684"/>
                  <a:pt x="17462" y="14684"/>
                </a:cubicBezTo>
                <a:cubicBezTo>
                  <a:pt x="17629" y="14684"/>
                  <a:pt x="17791" y="14662"/>
                  <a:pt x="17959" y="14660"/>
                </a:cubicBezTo>
                <a:cubicBezTo>
                  <a:pt x="18039" y="14659"/>
                  <a:pt x="18380" y="14662"/>
                  <a:pt x="18380" y="14660"/>
                </a:cubicBezTo>
                <a:cubicBezTo>
                  <a:pt x="18347" y="14627"/>
                  <a:pt x="18314" y="14593"/>
                  <a:pt x="18281" y="14560"/>
                </a:cubicBezTo>
              </a:path>
              <a:path w="16769" h="1614">
                <a:moveTo>
                  <a:pt x="1637" y="13370"/>
                </a:moveTo>
                <a:cubicBezTo>
                  <a:pt x="1754" y="13387"/>
                  <a:pt x="1903" y="13383"/>
                  <a:pt x="2034" y="13395"/>
                </a:cubicBezTo>
                <a:cubicBezTo>
                  <a:pt x="2250" y="13415"/>
                  <a:pt x="2471" y="13419"/>
                  <a:pt x="2679" y="13419"/>
                </a:cubicBezTo>
                <a:cubicBezTo>
                  <a:pt x="2777" y="13419"/>
                  <a:pt x="2857" y="13400"/>
                  <a:pt x="2952" y="13395"/>
                </a:cubicBezTo>
                <a:cubicBezTo>
                  <a:pt x="3073" y="13388"/>
                  <a:pt x="3181" y="13388"/>
                  <a:pt x="3299" y="13370"/>
                </a:cubicBezTo>
                <a:cubicBezTo>
                  <a:pt x="3373" y="13359"/>
                  <a:pt x="3449" y="13328"/>
                  <a:pt x="3522" y="13320"/>
                </a:cubicBezTo>
                <a:cubicBezTo>
                  <a:pt x="3703" y="13300"/>
                  <a:pt x="3913" y="13304"/>
                  <a:pt x="4093" y="13295"/>
                </a:cubicBezTo>
                <a:cubicBezTo>
                  <a:pt x="4219" y="13289"/>
                  <a:pt x="4340" y="13274"/>
                  <a:pt x="4465" y="13271"/>
                </a:cubicBezTo>
                <a:cubicBezTo>
                  <a:pt x="4707" y="13265"/>
                  <a:pt x="4945" y="13260"/>
                  <a:pt x="5184" y="13246"/>
                </a:cubicBezTo>
                <a:cubicBezTo>
                  <a:pt x="5382" y="13234"/>
                  <a:pt x="5581" y="13225"/>
                  <a:pt x="5779" y="13221"/>
                </a:cubicBezTo>
                <a:cubicBezTo>
                  <a:pt x="5956" y="13218"/>
                  <a:pt x="6125" y="13182"/>
                  <a:pt x="6300" y="13171"/>
                </a:cubicBezTo>
                <a:cubicBezTo>
                  <a:pt x="6494" y="13159"/>
                  <a:pt x="6732" y="13137"/>
                  <a:pt x="6921" y="13146"/>
                </a:cubicBezTo>
                <a:cubicBezTo>
                  <a:pt x="7005" y="13150"/>
                  <a:pt x="7035" y="13165"/>
                  <a:pt x="7119" y="1317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ow to make a 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 1) (gather data) You do a survey of 15 kids in class to see what their favorite colors are. The results are: 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yellow, blue, blue, red, orange, pink, pink, pink, blue, green, orange, yellow, red, red, bl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 2) Next make a chart putting the choices on the side, a place to make tallies and a place to total up the tallies (called the frequenc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3809880"/>
          <a:ext cx="6400800" cy="27669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l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1839960" y="1517760"/>
            <a:ext cx="3276720" cy="982440"/>
          </a:xfrm>
          <a:custGeom>
            <a:avLst/>
            <a:gdLst/>
            <a:ahLst/>
            <a:rect l="l" t="t" r="r" b="b"/>
            <a:pathLst>
              <a:path w="9104" h="2729">
                <a:moveTo>
                  <a:pt x="5110" y="5283"/>
                </a:moveTo>
                <a:cubicBezTo>
                  <a:pt x="5115" y="5283"/>
                  <a:pt x="5160" y="5269"/>
                  <a:pt x="5209" y="5283"/>
                </a:cubicBezTo>
                <a:cubicBezTo>
                  <a:pt x="5248" y="5294"/>
                  <a:pt x="5295" y="5296"/>
                  <a:pt x="5333" y="5308"/>
                </a:cubicBezTo>
                <a:cubicBezTo>
                  <a:pt x="5390" y="5326"/>
                  <a:pt x="5406" y="5330"/>
                  <a:pt x="5482" y="5333"/>
                </a:cubicBezTo>
                <a:cubicBezTo>
                  <a:pt x="5540" y="5335"/>
                  <a:pt x="5576" y="5352"/>
                  <a:pt x="5631" y="5358"/>
                </a:cubicBezTo>
                <a:cubicBezTo>
                  <a:pt x="5692" y="5365"/>
                  <a:pt x="5743" y="5377"/>
                  <a:pt x="5804" y="5383"/>
                </a:cubicBezTo>
                <a:cubicBezTo>
                  <a:pt x="5886" y="5391"/>
                  <a:pt x="6027" y="5412"/>
                  <a:pt x="6102" y="5407"/>
                </a:cubicBezTo>
                <a:cubicBezTo>
                  <a:pt x="6169" y="5402"/>
                  <a:pt x="6227" y="5386"/>
                  <a:pt x="6300" y="5383"/>
                </a:cubicBezTo>
                <a:cubicBezTo>
                  <a:pt x="6419" y="5379"/>
                  <a:pt x="6532" y="5371"/>
                  <a:pt x="6648" y="5358"/>
                </a:cubicBezTo>
                <a:cubicBezTo>
                  <a:pt x="6883" y="5332"/>
                  <a:pt x="7134" y="5352"/>
                  <a:pt x="7367" y="5333"/>
                </a:cubicBezTo>
                <a:cubicBezTo>
                  <a:pt x="7481" y="5324"/>
                  <a:pt x="7585" y="5348"/>
                  <a:pt x="7689" y="5358"/>
                </a:cubicBezTo>
                <a:cubicBezTo>
                  <a:pt x="7837" y="5372"/>
                  <a:pt x="7989" y="5370"/>
                  <a:pt x="8136" y="5383"/>
                </a:cubicBezTo>
                <a:cubicBezTo>
                  <a:pt x="8211" y="5390"/>
                  <a:pt x="8307" y="5420"/>
                  <a:pt x="8384" y="5407"/>
                </a:cubicBezTo>
                <a:cubicBezTo>
                  <a:pt x="8440" y="5397"/>
                  <a:pt x="8408" y="5386"/>
                  <a:pt x="8508" y="5383"/>
                </a:cubicBezTo>
                <a:cubicBezTo>
                  <a:pt x="8580" y="5381"/>
                  <a:pt x="8640" y="5363"/>
                  <a:pt x="8706" y="5358"/>
                </a:cubicBezTo>
                <a:cubicBezTo>
                  <a:pt x="8782" y="5352"/>
                  <a:pt x="8856" y="5339"/>
                  <a:pt x="8930" y="5333"/>
                </a:cubicBezTo>
                <a:cubicBezTo>
                  <a:pt x="9015" y="5327"/>
                  <a:pt x="9095" y="5314"/>
                  <a:pt x="9178" y="5308"/>
                </a:cubicBezTo>
                <a:cubicBezTo>
                  <a:pt x="9266" y="5302"/>
                  <a:pt x="9379" y="5289"/>
                  <a:pt x="9451" y="5283"/>
                </a:cubicBezTo>
                <a:cubicBezTo>
                  <a:pt x="9482" y="5280"/>
                  <a:pt x="9595" y="5267"/>
                  <a:pt x="9550" y="5283"/>
                </a:cubicBezTo>
                <a:cubicBezTo>
                  <a:pt x="9436" y="5312"/>
                  <a:pt x="9387" y="5320"/>
                  <a:pt x="9302" y="5308"/>
                </a:cubicBezTo>
              </a:path>
              <a:path w="9104" h="2729">
                <a:moveTo>
                  <a:pt x="10592" y="4217"/>
                </a:moveTo>
                <a:cubicBezTo>
                  <a:pt x="10645" y="4364"/>
                  <a:pt x="10661" y="4507"/>
                  <a:pt x="10666" y="4663"/>
                </a:cubicBezTo>
                <a:cubicBezTo>
                  <a:pt x="10666" y="4680"/>
                  <a:pt x="10666" y="4696"/>
                  <a:pt x="10666" y="4713"/>
                </a:cubicBezTo>
              </a:path>
              <a:path w="9104" h="2729">
                <a:moveTo>
                  <a:pt x="10393" y="4614"/>
                </a:moveTo>
                <a:cubicBezTo>
                  <a:pt x="10554" y="4530"/>
                  <a:pt x="10721" y="4425"/>
                  <a:pt x="10889" y="4366"/>
                </a:cubicBezTo>
                <a:cubicBezTo>
                  <a:pt x="10932" y="4351"/>
                  <a:pt x="10924" y="4387"/>
                  <a:pt x="10939" y="4341"/>
                </a:cubicBezTo>
              </a:path>
              <a:path w="9104" h="2729">
                <a:moveTo>
                  <a:pt x="10666" y="4217"/>
                </a:moveTo>
                <a:cubicBezTo>
                  <a:pt x="10571" y="4355"/>
                  <a:pt x="10487" y="4687"/>
                  <a:pt x="10368" y="4787"/>
                </a:cubicBezTo>
                <a:cubicBezTo>
                  <a:pt x="10368" y="4771"/>
                  <a:pt x="10368" y="4754"/>
                  <a:pt x="10368" y="4738"/>
                </a:cubicBezTo>
              </a:path>
              <a:path w="9104" h="2729">
                <a:moveTo>
                  <a:pt x="10368" y="4415"/>
                </a:moveTo>
                <a:cubicBezTo>
                  <a:pt x="10554" y="4466"/>
                  <a:pt x="10750" y="4542"/>
                  <a:pt x="10939" y="4564"/>
                </a:cubicBezTo>
                <a:cubicBezTo>
                  <a:pt x="10964" y="4564"/>
                  <a:pt x="10972" y="4564"/>
                  <a:pt x="10964" y="4589"/>
                </a:cubicBezTo>
              </a:path>
              <a:path w="9104" h="2729">
                <a:moveTo>
                  <a:pt x="7218" y="6945"/>
                </a:moveTo>
                <a:cubicBezTo>
                  <a:pt x="7374" y="6733"/>
                  <a:pt x="7626" y="6586"/>
                  <a:pt x="7863" y="6474"/>
                </a:cubicBezTo>
                <a:cubicBezTo>
                  <a:pt x="8267" y="6283"/>
                  <a:pt x="8705" y="6122"/>
                  <a:pt x="9128" y="5978"/>
                </a:cubicBezTo>
                <a:cubicBezTo>
                  <a:pt x="9202" y="5959"/>
                  <a:pt x="9209" y="5951"/>
                  <a:pt x="9252" y="5953"/>
                </a:cubicBezTo>
              </a:path>
              <a:path w="9104" h="2729">
                <a:moveTo>
                  <a:pt x="10145" y="6945"/>
                </a:moveTo>
                <a:cubicBezTo>
                  <a:pt x="10478" y="6850"/>
                  <a:pt x="10826" y="6792"/>
                  <a:pt x="11162" y="6697"/>
                </a:cubicBezTo>
                <a:cubicBezTo>
                  <a:pt x="11460" y="6613"/>
                  <a:pt x="11765" y="6489"/>
                  <a:pt x="12055" y="6400"/>
                </a:cubicBezTo>
                <a:cubicBezTo>
                  <a:pt x="12063" y="6400"/>
                  <a:pt x="12072" y="6400"/>
                  <a:pt x="12080" y="6400"/>
                </a:cubicBezTo>
              </a:path>
              <a:path w="9104" h="2729">
                <a:moveTo>
                  <a:pt x="12427" y="6697"/>
                </a:moveTo>
                <a:cubicBezTo>
                  <a:pt x="12450" y="6765"/>
                  <a:pt x="12637" y="6686"/>
                  <a:pt x="12774" y="6648"/>
                </a:cubicBezTo>
                <a:cubicBezTo>
                  <a:pt x="13218" y="6526"/>
                  <a:pt x="13650" y="6364"/>
                  <a:pt x="14089" y="6226"/>
                </a:cubicBezTo>
                <a:cubicBezTo>
                  <a:pt x="14163" y="6207"/>
                  <a:pt x="14170" y="6199"/>
                  <a:pt x="14213" y="620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19120" y="3776760"/>
            <a:ext cx="2367000" cy="723960"/>
          </a:xfrm>
          <a:custGeom>
            <a:avLst/>
            <a:gdLst/>
            <a:ahLst/>
            <a:rect l="l" t="t" r="r" b="b"/>
            <a:pathLst>
              <a:path w="6574" h="2011">
                <a:moveTo>
                  <a:pt x="4465" y="11584"/>
                </a:moveTo>
                <a:cubicBezTo>
                  <a:pt x="4617" y="11584"/>
                  <a:pt x="4762" y="11599"/>
                  <a:pt x="4911" y="11609"/>
                </a:cubicBezTo>
                <a:cubicBezTo>
                  <a:pt x="5184" y="11627"/>
                  <a:pt x="5461" y="11609"/>
                  <a:pt x="5730" y="11633"/>
                </a:cubicBezTo>
                <a:cubicBezTo>
                  <a:pt x="5865" y="11645"/>
                  <a:pt x="5995" y="11618"/>
                  <a:pt x="6127" y="11609"/>
                </a:cubicBezTo>
                <a:cubicBezTo>
                  <a:pt x="6274" y="11599"/>
                  <a:pt x="6429" y="11587"/>
                  <a:pt x="6573" y="11559"/>
                </a:cubicBezTo>
                <a:cubicBezTo>
                  <a:pt x="6670" y="11540"/>
                  <a:pt x="6808" y="11504"/>
                  <a:pt x="6896" y="11460"/>
                </a:cubicBezTo>
                <a:cubicBezTo>
                  <a:pt x="7010" y="11403"/>
                  <a:pt x="7033" y="11365"/>
                  <a:pt x="7069" y="11237"/>
                </a:cubicBezTo>
                <a:cubicBezTo>
                  <a:pt x="7104" y="11115"/>
                  <a:pt x="7101" y="11011"/>
                  <a:pt x="7069" y="10889"/>
                </a:cubicBezTo>
                <a:cubicBezTo>
                  <a:pt x="7041" y="10781"/>
                  <a:pt x="7007" y="10732"/>
                  <a:pt x="6921" y="10666"/>
                </a:cubicBezTo>
                <a:cubicBezTo>
                  <a:pt x="6829" y="10595"/>
                  <a:pt x="6743" y="10532"/>
                  <a:pt x="6623" y="10517"/>
                </a:cubicBezTo>
                <a:cubicBezTo>
                  <a:pt x="6446" y="10495"/>
                  <a:pt x="6257" y="10477"/>
                  <a:pt x="6077" y="10492"/>
                </a:cubicBezTo>
                <a:cubicBezTo>
                  <a:pt x="5796" y="10515"/>
                  <a:pt x="5514" y="10539"/>
                  <a:pt x="5234" y="10567"/>
                </a:cubicBezTo>
                <a:cubicBezTo>
                  <a:pt x="4986" y="10592"/>
                  <a:pt x="4717" y="10628"/>
                  <a:pt x="4490" y="10740"/>
                </a:cubicBezTo>
                <a:cubicBezTo>
                  <a:pt x="4354" y="10807"/>
                  <a:pt x="4204" y="10912"/>
                  <a:pt x="4093" y="11013"/>
                </a:cubicBezTo>
                <a:cubicBezTo>
                  <a:pt x="4000" y="11097"/>
                  <a:pt x="3941" y="11233"/>
                  <a:pt x="3944" y="11361"/>
                </a:cubicBezTo>
                <a:cubicBezTo>
                  <a:pt x="3948" y="11534"/>
                  <a:pt x="4023" y="11731"/>
                  <a:pt x="4192" y="11807"/>
                </a:cubicBezTo>
                <a:cubicBezTo>
                  <a:pt x="4373" y="11888"/>
                  <a:pt x="4648" y="11886"/>
                  <a:pt x="4837" y="11832"/>
                </a:cubicBezTo>
                <a:cubicBezTo>
                  <a:pt x="4865" y="11832"/>
                  <a:pt x="4876" y="11830"/>
                  <a:pt x="4887" y="11807"/>
                </a:cubicBezTo>
              </a:path>
              <a:path w="6574" h="2011">
                <a:moveTo>
                  <a:pt x="10492" y="11956"/>
                </a:moveTo>
                <a:cubicBezTo>
                  <a:pt x="10492" y="11934"/>
                  <a:pt x="10492" y="11695"/>
                  <a:pt x="10492" y="11832"/>
                </a:cubicBezTo>
                <a:cubicBezTo>
                  <a:pt x="10492" y="12040"/>
                  <a:pt x="10480" y="12245"/>
                  <a:pt x="10468" y="12452"/>
                </a:cubicBezTo>
                <a:cubicBezTo>
                  <a:pt x="10457" y="12650"/>
                  <a:pt x="10447" y="12056"/>
                  <a:pt x="10443" y="11857"/>
                </a:cubicBezTo>
                <a:cubicBezTo>
                  <a:pt x="10443" y="11840"/>
                  <a:pt x="10443" y="11824"/>
                  <a:pt x="10443" y="11807"/>
                </a:cubicBezTo>
                <a:cubicBezTo>
                  <a:pt x="10452" y="12039"/>
                  <a:pt x="10468" y="12269"/>
                  <a:pt x="10468" y="12502"/>
                </a:cubicBezTo>
                <a:cubicBezTo>
                  <a:pt x="10468" y="12401"/>
                  <a:pt x="10433" y="11376"/>
                  <a:pt x="10468" y="11931"/>
                </a:cubicBezTo>
                <a:cubicBezTo>
                  <a:pt x="10480" y="12116"/>
                  <a:pt x="10480" y="12560"/>
                  <a:pt x="10517" y="1237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90840" y="3044880"/>
            <a:ext cx="3009960" cy="2714400"/>
          </a:xfrm>
          <a:custGeom>
            <a:avLst/>
            <a:gdLst/>
            <a:ahLst/>
            <a:rect l="l" t="t" r="r" b="b"/>
            <a:pathLst>
              <a:path w="8360" h="7542">
                <a:moveTo>
                  <a:pt x="6945" y="8458"/>
                </a:moveTo>
                <a:cubicBezTo>
                  <a:pt x="6977" y="8482"/>
                  <a:pt x="6956" y="8500"/>
                  <a:pt x="6995" y="8508"/>
                </a:cubicBezTo>
                <a:cubicBezTo>
                  <a:pt x="7093" y="8529"/>
                  <a:pt x="7247" y="8527"/>
                  <a:pt x="7342" y="8533"/>
                </a:cubicBezTo>
                <a:cubicBezTo>
                  <a:pt x="7574" y="8547"/>
                  <a:pt x="7814" y="8522"/>
                  <a:pt x="8037" y="8508"/>
                </a:cubicBezTo>
                <a:cubicBezTo>
                  <a:pt x="8696" y="8466"/>
                  <a:pt x="9367" y="8533"/>
                  <a:pt x="10021" y="8483"/>
                </a:cubicBezTo>
                <a:cubicBezTo>
                  <a:pt x="10220" y="8468"/>
                  <a:pt x="10423" y="8494"/>
                  <a:pt x="10616" y="8508"/>
                </a:cubicBezTo>
                <a:cubicBezTo>
                  <a:pt x="10798" y="8521"/>
                  <a:pt x="10983" y="8520"/>
                  <a:pt x="11162" y="8533"/>
                </a:cubicBezTo>
                <a:cubicBezTo>
                  <a:pt x="11336" y="8545"/>
                  <a:pt x="11525" y="8522"/>
                  <a:pt x="11683" y="8508"/>
                </a:cubicBezTo>
                <a:cubicBezTo>
                  <a:pt x="11741" y="8503"/>
                  <a:pt x="11799" y="8512"/>
                  <a:pt x="11857" y="8508"/>
                </a:cubicBezTo>
              </a:path>
              <a:path w="8360" h="7542">
                <a:moveTo>
                  <a:pt x="11162" y="9277"/>
                </a:moveTo>
                <a:cubicBezTo>
                  <a:pt x="11232" y="9260"/>
                  <a:pt x="11301" y="9252"/>
                  <a:pt x="11385" y="9252"/>
                </a:cubicBezTo>
                <a:cubicBezTo>
                  <a:pt x="11519" y="9252"/>
                  <a:pt x="11646" y="9277"/>
                  <a:pt x="11782" y="9277"/>
                </a:cubicBezTo>
                <a:cubicBezTo>
                  <a:pt x="11908" y="9277"/>
                  <a:pt x="12026" y="9302"/>
                  <a:pt x="12154" y="9302"/>
                </a:cubicBezTo>
                <a:cubicBezTo>
                  <a:pt x="12364" y="9302"/>
                  <a:pt x="12566" y="9296"/>
                  <a:pt x="12774" y="9277"/>
                </a:cubicBezTo>
                <a:cubicBezTo>
                  <a:pt x="12926" y="9263"/>
                  <a:pt x="13073" y="9290"/>
                  <a:pt x="13221" y="9302"/>
                </a:cubicBezTo>
                <a:cubicBezTo>
                  <a:pt x="13306" y="9309"/>
                  <a:pt x="13395" y="9270"/>
                  <a:pt x="13469" y="9277"/>
                </a:cubicBezTo>
                <a:cubicBezTo>
                  <a:pt x="13531" y="9283"/>
                  <a:pt x="13501" y="9294"/>
                  <a:pt x="13543" y="9277"/>
                </a:cubicBezTo>
              </a:path>
              <a:path w="8360" h="7542">
                <a:moveTo>
                  <a:pt x="11559" y="10195"/>
                </a:moveTo>
                <a:cubicBezTo>
                  <a:pt x="11785" y="10195"/>
                  <a:pt x="12005" y="10174"/>
                  <a:pt x="12229" y="10170"/>
                </a:cubicBezTo>
                <a:cubicBezTo>
                  <a:pt x="12603" y="10164"/>
                  <a:pt x="12974" y="10164"/>
                  <a:pt x="13345" y="10145"/>
                </a:cubicBezTo>
                <a:cubicBezTo>
                  <a:pt x="13602" y="10132"/>
                  <a:pt x="13858" y="10109"/>
                  <a:pt x="14114" y="10096"/>
                </a:cubicBezTo>
                <a:cubicBezTo>
                  <a:pt x="14354" y="10084"/>
                  <a:pt x="14594" y="10097"/>
                  <a:pt x="14833" y="10071"/>
                </a:cubicBezTo>
                <a:cubicBezTo>
                  <a:pt x="14967" y="10056"/>
                  <a:pt x="15098" y="10034"/>
                  <a:pt x="15230" y="10021"/>
                </a:cubicBezTo>
                <a:cubicBezTo>
                  <a:pt x="15255" y="10021"/>
                  <a:pt x="15263" y="10021"/>
                  <a:pt x="15280" y="10021"/>
                </a:cubicBezTo>
              </a:path>
              <a:path w="8360" h="7542">
                <a:moveTo>
                  <a:pt x="10542" y="15404"/>
                </a:moveTo>
                <a:cubicBezTo>
                  <a:pt x="10542" y="15321"/>
                  <a:pt x="10531" y="15098"/>
                  <a:pt x="10517" y="15180"/>
                </a:cubicBezTo>
                <a:cubicBezTo>
                  <a:pt x="10504" y="15256"/>
                  <a:pt x="10499" y="15948"/>
                  <a:pt x="10468" y="15949"/>
                </a:cubicBezTo>
                <a:cubicBezTo>
                  <a:pt x="10204" y="15960"/>
                  <a:pt x="10444" y="15041"/>
                  <a:pt x="10468" y="15304"/>
                </a:cubicBezTo>
                <a:cubicBezTo>
                  <a:pt x="10495" y="15560"/>
                  <a:pt x="10501" y="15667"/>
                  <a:pt x="10468" y="15850"/>
                </a:cubicBezTo>
                <a:cubicBezTo>
                  <a:pt x="10468" y="16048"/>
                  <a:pt x="10468" y="15701"/>
                  <a:pt x="10468" y="15503"/>
                </a:cubicBezTo>
                <a:cubicBezTo>
                  <a:pt x="10468" y="15305"/>
                  <a:pt x="10468" y="15272"/>
                  <a:pt x="10468" y="15156"/>
                </a:cubicBezTo>
                <a:cubicBezTo>
                  <a:pt x="10468" y="15389"/>
                  <a:pt x="10459" y="15618"/>
                  <a:pt x="10443" y="15850"/>
                </a:cubicBezTo>
                <a:cubicBezTo>
                  <a:pt x="10428" y="16067"/>
                  <a:pt x="10328" y="15162"/>
                  <a:pt x="10542" y="15205"/>
                </a:cubicBezTo>
                <a:cubicBezTo>
                  <a:pt x="10771" y="15251"/>
                  <a:pt x="10546" y="16132"/>
                  <a:pt x="10517" y="15900"/>
                </a:cubicBezTo>
                <a:cubicBezTo>
                  <a:pt x="10497" y="15746"/>
                  <a:pt x="10551" y="15441"/>
                  <a:pt x="10567" y="15379"/>
                </a:cubicBezTo>
                <a:cubicBezTo>
                  <a:pt x="10538" y="15585"/>
                  <a:pt x="10517" y="16207"/>
                  <a:pt x="10517" y="15999"/>
                </a:cubicBezTo>
                <a:cubicBezTo>
                  <a:pt x="10517" y="15790"/>
                  <a:pt x="10592" y="15220"/>
                  <a:pt x="10592" y="15429"/>
                </a:cubicBezTo>
                <a:cubicBezTo>
                  <a:pt x="10592" y="15602"/>
                  <a:pt x="10592" y="15776"/>
                  <a:pt x="10592" y="15949"/>
                </a:cubicBezTo>
              </a:path>
              <a:path w="8360" h="7542">
                <a:moveTo>
                  <a:pt x="10517" y="12948"/>
                </a:moveTo>
                <a:cubicBezTo>
                  <a:pt x="10517" y="13186"/>
                  <a:pt x="10483" y="13433"/>
                  <a:pt x="10492" y="13667"/>
                </a:cubicBezTo>
                <a:cubicBezTo>
                  <a:pt x="10499" y="13860"/>
                  <a:pt x="10475" y="13439"/>
                  <a:pt x="10468" y="13246"/>
                </a:cubicBezTo>
                <a:cubicBezTo>
                  <a:pt x="10462" y="13085"/>
                  <a:pt x="10430" y="12717"/>
                  <a:pt x="10468" y="12874"/>
                </a:cubicBezTo>
                <a:cubicBezTo>
                  <a:pt x="10520" y="13137"/>
                  <a:pt x="10538" y="13234"/>
                  <a:pt x="10542" y="13419"/>
                </a:cubicBezTo>
                <a:cubicBezTo>
                  <a:pt x="10615" y="13904"/>
                  <a:pt x="10521" y="13233"/>
                  <a:pt x="10517" y="13171"/>
                </a:cubicBezTo>
                <a:cubicBezTo>
                  <a:pt x="10513" y="13115"/>
                  <a:pt x="10463" y="12767"/>
                  <a:pt x="10542" y="12948"/>
                </a:cubicBezTo>
                <a:cubicBezTo>
                  <a:pt x="10547" y="13033"/>
                  <a:pt x="10549" y="13752"/>
                  <a:pt x="10567" y="13593"/>
                </a:cubicBezTo>
                <a:cubicBezTo>
                  <a:pt x="10575" y="13527"/>
                  <a:pt x="10584" y="13461"/>
                  <a:pt x="10592" y="13395"/>
                </a:cubicBezTo>
              </a:path>
              <a:path w="8360" h="7542">
                <a:moveTo>
                  <a:pt x="10939" y="13022"/>
                </a:moveTo>
                <a:cubicBezTo>
                  <a:pt x="10942" y="12998"/>
                  <a:pt x="10977" y="12860"/>
                  <a:pt x="10988" y="12948"/>
                </a:cubicBezTo>
                <a:cubicBezTo>
                  <a:pt x="11020" y="13217"/>
                  <a:pt x="10992" y="13550"/>
                  <a:pt x="10939" y="13816"/>
                </a:cubicBezTo>
                <a:cubicBezTo>
                  <a:pt x="10937" y="13828"/>
                  <a:pt x="10930" y="13261"/>
                  <a:pt x="10939" y="13146"/>
                </a:cubicBezTo>
                <a:cubicBezTo>
                  <a:pt x="10957" y="13039"/>
                  <a:pt x="10965" y="13031"/>
                  <a:pt x="10964" y="12973"/>
                </a:cubicBezTo>
                <a:cubicBezTo>
                  <a:pt x="10939" y="13228"/>
                  <a:pt x="10930" y="13485"/>
                  <a:pt x="10914" y="13742"/>
                </a:cubicBezTo>
                <a:cubicBezTo>
                  <a:pt x="10923" y="13591"/>
                  <a:pt x="10984" y="12912"/>
                  <a:pt x="10988" y="13122"/>
                </a:cubicBezTo>
                <a:cubicBezTo>
                  <a:pt x="10988" y="13205"/>
                  <a:pt x="10988" y="13287"/>
                  <a:pt x="10988" y="13370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6760" y="3081240"/>
            <a:ext cx="992160" cy="61920"/>
          </a:xfrm>
          <a:custGeom>
            <a:avLst/>
            <a:gdLst/>
            <a:ahLst/>
            <a:rect l="l" t="t" r="r" b="b"/>
            <a:pathLst>
              <a:path w="2755" h="174">
                <a:moveTo>
                  <a:pt x="16991" y="8632"/>
                </a:moveTo>
                <a:cubicBezTo>
                  <a:pt x="17077" y="8649"/>
                  <a:pt x="17150" y="8657"/>
                  <a:pt x="17239" y="8657"/>
                </a:cubicBezTo>
                <a:cubicBezTo>
                  <a:pt x="17352" y="8657"/>
                  <a:pt x="17449" y="8659"/>
                  <a:pt x="17562" y="8682"/>
                </a:cubicBezTo>
                <a:cubicBezTo>
                  <a:pt x="17675" y="8705"/>
                  <a:pt x="17795" y="8726"/>
                  <a:pt x="17909" y="8731"/>
                </a:cubicBezTo>
                <a:cubicBezTo>
                  <a:pt x="18087" y="8739"/>
                  <a:pt x="18256" y="8724"/>
                  <a:pt x="18430" y="8706"/>
                </a:cubicBezTo>
                <a:cubicBezTo>
                  <a:pt x="18554" y="8693"/>
                  <a:pt x="18680" y="8689"/>
                  <a:pt x="18802" y="8657"/>
                </a:cubicBezTo>
                <a:cubicBezTo>
                  <a:pt x="18905" y="8630"/>
                  <a:pt x="19019" y="8618"/>
                  <a:pt x="19124" y="8607"/>
                </a:cubicBezTo>
                <a:cubicBezTo>
                  <a:pt x="19192" y="8600"/>
                  <a:pt x="19260" y="8590"/>
                  <a:pt x="19323" y="8582"/>
                </a:cubicBezTo>
                <a:cubicBezTo>
                  <a:pt x="19424" y="8569"/>
                  <a:pt x="19518" y="8558"/>
                  <a:pt x="19621" y="8558"/>
                </a:cubicBezTo>
                <a:cubicBezTo>
                  <a:pt x="19662" y="8558"/>
                  <a:pt x="19704" y="8558"/>
                  <a:pt x="19745" y="855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4760" y="3554280"/>
            <a:ext cx="204480" cy="23184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17438" y="10021"/>
                </a:moveTo>
                <a:cubicBezTo>
                  <a:pt x="17505" y="9974"/>
                  <a:pt x="17507" y="10287"/>
                  <a:pt x="17512" y="10319"/>
                </a:cubicBezTo>
                <a:cubicBezTo>
                  <a:pt x="17531" y="10434"/>
                  <a:pt x="17540" y="10450"/>
                  <a:pt x="17537" y="10517"/>
                </a:cubicBezTo>
              </a:path>
              <a:path w="571" h="646">
                <a:moveTo>
                  <a:pt x="17289" y="10294"/>
                </a:moveTo>
                <a:cubicBezTo>
                  <a:pt x="17464" y="10230"/>
                  <a:pt x="17623" y="10179"/>
                  <a:pt x="17810" y="10170"/>
                </a:cubicBezTo>
                <a:cubicBezTo>
                  <a:pt x="17835" y="10170"/>
                  <a:pt x="17843" y="10170"/>
                  <a:pt x="17859" y="10170"/>
                </a:cubicBezTo>
              </a:path>
              <a:path w="571" h="646">
                <a:moveTo>
                  <a:pt x="17859" y="9872"/>
                </a:moveTo>
                <a:cubicBezTo>
                  <a:pt x="17718" y="10036"/>
                  <a:pt x="17623" y="10225"/>
                  <a:pt x="17487" y="10393"/>
                </a:cubicBezTo>
                <a:cubicBezTo>
                  <a:pt x="17436" y="10455"/>
                  <a:pt x="17452" y="10469"/>
                  <a:pt x="17413" y="10443"/>
                </a:cubicBezTo>
              </a:path>
              <a:path w="571" h="646">
                <a:moveTo>
                  <a:pt x="17289" y="10071"/>
                </a:moveTo>
                <a:cubicBezTo>
                  <a:pt x="17418" y="10126"/>
                  <a:pt x="17552" y="10248"/>
                  <a:pt x="17661" y="10344"/>
                </a:cubicBezTo>
                <a:cubicBezTo>
                  <a:pt x="17695" y="10374"/>
                  <a:pt x="17785" y="10480"/>
                  <a:pt x="17810" y="10492"/>
                </a:cubicBezTo>
                <a:cubicBezTo>
                  <a:pt x="17818" y="10492"/>
                  <a:pt x="17827" y="10492"/>
                  <a:pt x="17835" y="1049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360" y="3402000"/>
            <a:ext cx="1911600" cy="911160"/>
          </a:xfrm>
          <a:custGeom>
            <a:avLst/>
            <a:gdLst/>
            <a:ahLst/>
            <a:rect l="l" t="t" r="r" b="b"/>
            <a:pathLst>
              <a:path w="5309" h="2531">
                <a:moveTo>
                  <a:pt x="25" y="10988"/>
                </a:moveTo>
                <a:cubicBezTo>
                  <a:pt x="123" y="10982"/>
                  <a:pt x="226" y="10980"/>
                  <a:pt x="322" y="10964"/>
                </a:cubicBezTo>
                <a:cubicBezTo>
                  <a:pt x="441" y="10944"/>
                  <a:pt x="548" y="10939"/>
                  <a:pt x="670" y="10939"/>
                </a:cubicBezTo>
                <a:cubicBezTo>
                  <a:pt x="839" y="10939"/>
                  <a:pt x="1002" y="10929"/>
                  <a:pt x="1166" y="10914"/>
                </a:cubicBezTo>
                <a:cubicBezTo>
                  <a:pt x="1312" y="10900"/>
                  <a:pt x="1472" y="10901"/>
                  <a:pt x="1612" y="10889"/>
                </a:cubicBezTo>
                <a:cubicBezTo>
                  <a:pt x="1729" y="10879"/>
                  <a:pt x="1843" y="10850"/>
                  <a:pt x="1960" y="10840"/>
                </a:cubicBezTo>
                <a:cubicBezTo>
                  <a:pt x="2133" y="10826"/>
                  <a:pt x="2307" y="10834"/>
                  <a:pt x="2480" y="10815"/>
                </a:cubicBezTo>
                <a:cubicBezTo>
                  <a:pt x="2624" y="10799"/>
                  <a:pt x="2757" y="10790"/>
                  <a:pt x="2902" y="10790"/>
                </a:cubicBezTo>
                <a:cubicBezTo>
                  <a:pt x="3036" y="10790"/>
                  <a:pt x="3165" y="10768"/>
                  <a:pt x="3299" y="10765"/>
                </a:cubicBezTo>
                <a:cubicBezTo>
                  <a:pt x="3351" y="10764"/>
                  <a:pt x="3600" y="10756"/>
                  <a:pt x="3572" y="10765"/>
                </a:cubicBezTo>
                <a:cubicBezTo>
                  <a:pt x="3506" y="10782"/>
                  <a:pt x="3439" y="10798"/>
                  <a:pt x="3373" y="10815"/>
                </a:cubicBezTo>
              </a:path>
              <a:path w="5309" h="2531">
                <a:moveTo>
                  <a:pt x="1166" y="10964"/>
                </a:moveTo>
                <a:cubicBezTo>
                  <a:pt x="1176" y="10933"/>
                  <a:pt x="1184" y="10925"/>
                  <a:pt x="1215" y="10914"/>
                </a:cubicBezTo>
                <a:cubicBezTo>
                  <a:pt x="1215" y="11205"/>
                  <a:pt x="1221" y="11497"/>
                  <a:pt x="1191" y="11782"/>
                </a:cubicBezTo>
                <a:cubicBezTo>
                  <a:pt x="1186" y="11831"/>
                  <a:pt x="1172" y="11983"/>
                  <a:pt x="1191" y="11956"/>
                </a:cubicBezTo>
                <a:cubicBezTo>
                  <a:pt x="1199" y="11948"/>
                  <a:pt x="1207" y="11939"/>
                  <a:pt x="1215" y="11931"/>
                </a:cubicBezTo>
              </a:path>
              <a:path w="5309" h="2531">
                <a:moveTo>
                  <a:pt x="2456" y="10914"/>
                </a:moveTo>
                <a:cubicBezTo>
                  <a:pt x="2462" y="10894"/>
                  <a:pt x="2480" y="10845"/>
                  <a:pt x="2480" y="10889"/>
                </a:cubicBezTo>
                <a:cubicBezTo>
                  <a:pt x="2480" y="11155"/>
                  <a:pt x="2472" y="11421"/>
                  <a:pt x="2505" y="11683"/>
                </a:cubicBezTo>
                <a:cubicBezTo>
                  <a:pt x="2513" y="11743"/>
                  <a:pt x="2524" y="11800"/>
                  <a:pt x="2530" y="11857"/>
                </a:cubicBezTo>
                <a:cubicBezTo>
                  <a:pt x="2535" y="11904"/>
                  <a:pt x="2542" y="11916"/>
                  <a:pt x="2555" y="11956"/>
                </a:cubicBezTo>
                <a:cubicBezTo>
                  <a:pt x="2555" y="11964"/>
                  <a:pt x="2555" y="11973"/>
                  <a:pt x="2555" y="11981"/>
                </a:cubicBezTo>
              </a:path>
              <a:path w="5309" h="2531">
                <a:moveTo>
                  <a:pt x="149" y="10592"/>
                </a:moveTo>
                <a:cubicBezTo>
                  <a:pt x="166" y="10540"/>
                  <a:pt x="173" y="10583"/>
                  <a:pt x="198" y="10616"/>
                </a:cubicBezTo>
                <a:cubicBezTo>
                  <a:pt x="194" y="10600"/>
                  <a:pt x="128" y="10514"/>
                  <a:pt x="99" y="10542"/>
                </a:cubicBezTo>
                <a:cubicBezTo>
                  <a:pt x="18" y="10622"/>
                  <a:pt x="32" y="10835"/>
                  <a:pt x="99" y="10914"/>
                </a:cubicBezTo>
                <a:cubicBezTo>
                  <a:pt x="174" y="11003"/>
                  <a:pt x="269" y="10875"/>
                  <a:pt x="298" y="10815"/>
                </a:cubicBezTo>
                <a:cubicBezTo>
                  <a:pt x="306" y="10790"/>
                  <a:pt x="314" y="10765"/>
                  <a:pt x="322" y="10740"/>
                </a:cubicBezTo>
              </a:path>
              <a:path w="5309" h="2531">
                <a:moveTo>
                  <a:pt x="248" y="10368"/>
                </a:moveTo>
                <a:cubicBezTo>
                  <a:pt x="303" y="10479"/>
                  <a:pt x="385" y="10564"/>
                  <a:pt x="446" y="10666"/>
                </a:cubicBezTo>
                <a:cubicBezTo>
                  <a:pt x="446" y="10674"/>
                  <a:pt x="446" y="10683"/>
                  <a:pt x="446" y="10691"/>
                </a:cubicBezTo>
                <a:cubicBezTo>
                  <a:pt x="438" y="10650"/>
                  <a:pt x="392" y="10557"/>
                  <a:pt x="397" y="10517"/>
                </a:cubicBezTo>
                <a:cubicBezTo>
                  <a:pt x="402" y="10477"/>
                  <a:pt x="474" y="10405"/>
                  <a:pt x="521" y="10418"/>
                </a:cubicBezTo>
                <a:cubicBezTo>
                  <a:pt x="600" y="10439"/>
                  <a:pt x="582" y="10668"/>
                  <a:pt x="645" y="10616"/>
                </a:cubicBezTo>
                <a:cubicBezTo>
                  <a:pt x="653" y="10600"/>
                  <a:pt x="662" y="10583"/>
                  <a:pt x="670" y="10567"/>
                </a:cubicBezTo>
              </a:path>
              <a:path w="5309" h="2531">
                <a:moveTo>
                  <a:pt x="670" y="10319"/>
                </a:moveTo>
                <a:cubicBezTo>
                  <a:pt x="647" y="10342"/>
                  <a:pt x="575" y="10449"/>
                  <a:pt x="645" y="10492"/>
                </a:cubicBezTo>
                <a:cubicBezTo>
                  <a:pt x="697" y="10524"/>
                  <a:pt x="753" y="10440"/>
                  <a:pt x="744" y="10393"/>
                </a:cubicBezTo>
                <a:cubicBezTo>
                  <a:pt x="734" y="10341"/>
                  <a:pt x="706" y="10305"/>
                  <a:pt x="670" y="10269"/>
                </a:cubicBezTo>
              </a:path>
              <a:path w="5309" h="2531">
                <a:moveTo>
                  <a:pt x="769" y="10120"/>
                </a:moveTo>
                <a:cubicBezTo>
                  <a:pt x="818" y="10151"/>
                  <a:pt x="852" y="10179"/>
                  <a:pt x="893" y="10220"/>
                </a:cubicBezTo>
              </a:path>
              <a:path w="5309" h="2531">
                <a:moveTo>
                  <a:pt x="695" y="9971"/>
                </a:moveTo>
                <a:lnTo>
                  <a:pt x="695" y="9971"/>
                </a:lnTo>
                <a:lnTo>
                  <a:pt x="695" y="9971"/>
                </a:lnTo>
              </a:path>
              <a:path w="5309" h="2531">
                <a:moveTo>
                  <a:pt x="695" y="9971"/>
                </a:moveTo>
                <a:lnTo>
                  <a:pt x="695" y="9971"/>
                </a:lnTo>
              </a:path>
              <a:path w="5309" h="2531">
                <a:moveTo>
                  <a:pt x="992" y="9947"/>
                </a:moveTo>
                <a:cubicBezTo>
                  <a:pt x="992" y="9939"/>
                  <a:pt x="992" y="9930"/>
                  <a:pt x="992" y="9922"/>
                </a:cubicBezTo>
                <a:cubicBezTo>
                  <a:pt x="966" y="9973"/>
                  <a:pt x="942" y="10044"/>
                  <a:pt x="992" y="10071"/>
                </a:cubicBezTo>
                <a:cubicBezTo>
                  <a:pt x="1094" y="10126"/>
                  <a:pt x="1085" y="10036"/>
                  <a:pt x="1141" y="9996"/>
                </a:cubicBezTo>
                <a:cubicBezTo>
                  <a:pt x="1176" y="9996"/>
                  <a:pt x="1189" y="9987"/>
                  <a:pt x="1191" y="9947"/>
                </a:cubicBezTo>
              </a:path>
              <a:path w="5309" h="2531">
                <a:moveTo>
                  <a:pt x="1166" y="9798"/>
                </a:moveTo>
                <a:cubicBezTo>
                  <a:pt x="1179" y="9776"/>
                  <a:pt x="1226" y="9700"/>
                  <a:pt x="1215" y="9674"/>
                </a:cubicBezTo>
                <a:cubicBezTo>
                  <a:pt x="1207" y="9666"/>
                  <a:pt x="1199" y="9657"/>
                  <a:pt x="1191" y="9649"/>
                </a:cubicBezTo>
                <a:cubicBezTo>
                  <a:pt x="1129" y="9695"/>
                  <a:pt x="1132" y="9748"/>
                  <a:pt x="1166" y="9823"/>
                </a:cubicBezTo>
                <a:cubicBezTo>
                  <a:pt x="1174" y="9839"/>
                  <a:pt x="1183" y="9856"/>
                  <a:pt x="1191" y="9872"/>
                </a:cubicBezTo>
                <a:cubicBezTo>
                  <a:pt x="1269" y="9846"/>
                  <a:pt x="1293" y="9781"/>
                  <a:pt x="1339" y="9748"/>
                </a:cubicBezTo>
                <a:cubicBezTo>
                  <a:pt x="1347" y="9748"/>
                  <a:pt x="1356" y="9748"/>
                  <a:pt x="1364" y="9748"/>
                </a:cubicBezTo>
              </a:path>
              <a:path w="5309" h="2531">
                <a:moveTo>
                  <a:pt x="1414" y="9475"/>
                </a:moveTo>
                <a:cubicBezTo>
                  <a:pt x="1404" y="9446"/>
                  <a:pt x="1356" y="9431"/>
                  <a:pt x="1315" y="9451"/>
                </a:cubicBezTo>
                <a:cubicBezTo>
                  <a:pt x="1292" y="9473"/>
                  <a:pt x="1284" y="9478"/>
                  <a:pt x="1290" y="9500"/>
                </a:cubicBezTo>
                <a:cubicBezTo>
                  <a:pt x="1331" y="9490"/>
                  <a:pt x="1369" y="9486"/>
                  <a:pt x="1414" y="9475"/>
                </a:cubicBezTo>
                <a:cubicBezTo>
                  <a:pt x="1498" y="9455"/>
                  <a:pt x="1481" y="9434"/>
                  <a:pt x="1538" y="9475"/>
                </a:cubicBezTo>
                <a:cubicBezTo>
                  <a:pt x="1528" y="9516"/>
                  <a:pt x="1509" y="9545"/>
                  <a:pt x="1463" y="9550"/>
                </a:cubicBezTo>
                <a:cubicBezTo>
                  <a:pt x="1455" y="9550"/>
                  <a:pt x="1447" y="9550"/>
                  <a:pt x="1439" y="9550"/>
                </a:cubicBezTo>
              </a:path>
              <a:path w="5309" h="2531">
                <a:moveTo>
                  <a:pt x="1463" y="10542"/>
                </a:moveTo>
                <a:cubicBezTo>
                  <a:pt x="1493" y="10630"/>
                  <a:pt x="1567" y="10686"/>
                  <a:pt x="1612" y="10765"/>
                </a:cubicBezTo>
                <a:cubicBezTo>
                  <a:pt x="1612" y="10790"/>
                  <a:pt x="1612" y="10798"/>
                  <a:pt x="1588" y="10790"/>
                </a:cubicBezTo>
              </a:path>
              <a:path w="5309" h="2531">
                <a:moveTo>
                  <a:pt x="1240" y="10790"/>
                </a:moveTo>
                <a:cubicBezTo>
                  <a:pt x="1311" y="10689"/>
                  <a:pt x="1399" y="10606"/>
                  <a:pt x="1488" y="10517"/>
                </a:cubicBezTo>
                <a:cubicBezTo>
                  <a:pt x="1530" y="10475"/>
                  <a:pt x="1544" y="10451"/>
                  <a:pt x="1588" y="10418"/>
                </a:cubicBezTo>
              </a:path>
              <a:path w="5309" h="2531">
                <a:moveTo>
                  <a:pt x="1811" y="10492"/>
                </a:moveTo>
                <a:cubicBezTo>
                  <a:pt x="1831" y="10452"/>
                  <a:pt x="1840" y="10446"/>
                  <a:pt x="1836" y="10418"/>
                </a:cubicBezTo>
                <a:cubicBezTo>
                  <a:pt x="1752" y="10439"/>
                  <a:pt x="1746" y="10564"/>
                  <a:pt x="1761" y="10641"/>
                </a:cubicBezTo>
                <a:cubicBezTo>
                  <a:pt x="1769" y="10649"/>
                  <a:pt x="1778" y="10658"/>
                  <a:pt x="1786" y="10666"/>
                </a:cubicBezTo>
                <a:cubicBezTo>
                  <a:pt x="1824" y="10619"/>
                  <a:pt x="1849" y="10576"/>
                  <a:pt x="1860" y="10517"/>
                </a:cubicBezTo>
                <a:cubicBezTo>
                  <a:pt x="1874" y="10531"/>
                  <a:pt x="1931" y="10600"/>
                  <a:pt x="1960" y="10567"/>
                </a:cubicBezTo>
                <a:cubicBezTo>
                  <a:pt x="1968" y="10550"/>
                  <a:pt x="1976" y="10534"/>
                  <a:pt x="1984" y="10517"/>
                </a:cubicBezTo>
              </a:path>
              <a:path w="5309" h="2531">
                <a:moveTo>
                  <a:pt x="1885" y="10319"/>
                </a:moveTo>
                <a:cubicBezTo>
                  <a:pt x="1943" y="10354"/>
                  <a:pt x="1966" y="10411"/>
                  <a:pt x="2009" y="10468"/>
                </a:cubicBezTo>
                <a:cubicBezTo>
                  <a:pt x="2032" y="10490"/>
                  <a:pt x="2037" y="10498"/>
                  <a:pt x="2059" y="10492"/>
                </a:cubicBezTo>
              </a:path>
              <a:path w="5309" h="2531">
                <a:moveTo>
                  <a:pt x="2009" y="10170"/>
                </a:moveTo>
                <a:cubicBezTo>
                  <a:pt x="2058" y="10230"/>
                  <a:pt x="2088" y="10305"/>
                  <a:pt x="2133" y="10368"/>
                </a:cubicBezTo>
                <a:cubicBezTo>
                  <a:pt x="2156" y="10391"/>
                  <a:pt x="2160" y="10399"/>
                  <a:pt x="2183" y="10393"/>
                </a:cubicBezTo>
              </a:path>
              <a:path w="5309" h="2531">
                <a:moveTo>
                  <a:pt x="2183" y="10145"/>
                </a:moveTo>
                <a:cubicBezTo>
                  <a:pt x="2231" y="10176"/>
                  <a:pt x="2307" y="10252"/>
                  <a:pt x="2307" y="10220"/>
                </a:cubicBezTo>
              </a:path>
              <a:path w="5309" h="2531">
                <a:moveTo>
                  <a:pt x="2084" y="10071"/>
                </a:moveTo>
                <a:cubicBezTo>
                  <a:pt x="2125" y="10071"/>
                  <a:pt x="2150" y="10071"/>
                  <a:pt x="2183" y="10071"/>
                </a:cubicBezTo>
              </a:path>
              <a:path w="5309" h="2531">
                <a:moveTo>
                  <a:pt x="2257" y="10071"/>
                </a:moveTo>
                <a:cubicBezTo>
                  <a:pt x="2339" y="10048"/>
                  <a:pt x="2323" y="10039"/>
                  <a:pt x="2356" y="9947"/>
                </a:cubicBezTo>
                <a:cubicBezTo>
                  <a:pt x="2323" y="9972"/>
                  <a:pt x="2259" y="10076"/>
                  <a:pt x="2332" y="10120"/>
                </a:cubicBezTo>
                <a:cubicBezTo>
                  <a:pt x="2357" y="10128"/>
                  <a:pt x="2381" y="10137"/>
                  <a:pt x="2406" y="10145"/>
                </a:cubicBezTo>
              </a:path>
              <a:path w="5309" h="2531">
                <a:moveTo>
                  <a:pt x="2505" y="9872"/>
                </a:moveTo>
                <a:cubicBezTo>
                  <a:pt x="2480" y="9872"/>
                  <a:pt x="2472" y="9872"/>
                  <a:pt x="2480" y="9897"/>
                </a:cubicBezTo>
                <a:cubicBezTo>
                  <a:pt x="2530" y="9897"/>
                  <a:pt x="2602" y="9859"/>
                  <a:pt x="2629" y="9897"/>
                </a:cubicBezTo>
                <a:cubicBezTo>
                  <a:pt x="2651" y="9928"/>
                  <a:pt x="2596" y="9975"/>
                  <a:pt x="2580" y="9996"/>
                </a:cubicBezTo>
              </a:path>
              <a:path w="5309" h="2531">
                <a:moveTo>
                  <a:pt x="2704" y="10517"/>
                </a:moveTo>
                <a:cubicBezTo>
                  <a:pt x="2739" y="10545"/>
                  <a:pt x="2789" y="10617"/>
                  <a:pt x="2828" y="10666"/>
                </a:cubicBezTo>
                <a:cubicBezTo>
                  <a:pt x="2811" y="10598"/>
                  <a:pt x="2750" y="10475"/>
                  <a:pt x="2704" y="10418"/>
                </a:cubicBezTo>
                <a:cubicBezTo>
                  <a:pt x="2696" y="10418"/>
                  <a:pt x="2687" y="10418"/>
                  <a:pt x="2679" y="10418"/>
                </a:cubicBezTo>
                <a:cubicBezTo>
                  <a:pt x="2723" y="10385"/>
                  <a:pt x="2798" y="10367"/>
                  <a:pt x="2853" y="10344"/>
                </a:cubicBezTo>
                <a:cubicBezTo>
                  <a:pt x="2945" y="10305"/>
                  <a:pt x="2927" y="10307"/>
                  <a:pt x="2927" y="10368"/>
                </a:cubicBezTo>
              </a:path>
              <a:path w="5309" h="2531">
                <a:moveTo>
                  <a:pt x="2778" y="10592"/>
                </a:moveTo>
                <a:cubicBezTo>
                  <a:pt x="2861" y="10564"/>
                  <a:pt x="2934" y="10504"/>
                  <a:pt x="3001" y="10443"/>
                </a:cubicBezTo>
                <a:cubicBezTo>
                  <a:pt x="3067" y="10382"/>
                  <a:pt x="3082" y="10463"/>
                  <a:pt x="3125" y="10517"/>
                </a:cubicBezTo>
                <a:cubicBezTo>
                  <a:pt x="3133" y="10525"/>
                  <a:pt x="3142" y="10534"/>
                  <a:pt x="3150" y="10542"/>
                </a:cubicBezTo>
                <a:cubicBezTo>
                  <a:pt x="3128" y="10412"/>
                  <a:pt x="3099" y="10433"/>
                  <a:pt x="3200" y="10344"/>
                </a:cubicBezTo>
              </a:path>
              <a:path w="5309" h="2531">
                <a:moveTo>
                  <a:pt x="3324" y="10418"/>
                </a:moveTo>
                <a:cubicBezTo>
                  <a:pt x="3349" y="10377"/>
                  <a:pt x="3355" y="10343"/>
                  <a:pt x="3373" y="10294"/>
                </a:cubicBezTo>
                <a:cubicBezTo>
                  <a:pt x="3288" y="10329"/>
                  <a:pt x="3280" y="10380"/>
                  <a:pt x="3324" y="10468"/>
                </a:cubicBezTo>
                <a:cubicBezTo>
                  <a:pt x="3367" y="10552"/>
                  <a:pt x="3421" y="10491"/>
                  <a:pt x="3473" y="10468"/>
                </a:cubicBezTo>
              </a:path>
              <a:path w="5309" h="2531">
                <a:moveTo>
                  <a:pt x="3572" y="10319"/>
                </a:moveTo>
                <a:cubicBezTo>
                  <a:pt x="3527" y="10352"/>
                  <a:pt x="3499" y="10397"/>
                  <a:pt x="3522" y="10443"/>
                </a:cubicBezTo>
                <a:cubicBezTo>
                  <a:pt x="3533" y="10438"/>
                  <a:pt x="3600" y="10347"/>
                  <a:pt x="3621" y="10368"/>
                </a:cubicBezTo>
                <a:cubicBezTo>
                  <a:pt x="3706" y="10454"/>
                  <a:pt x="3683" y="10703"/>
                  <a:pt x="3696" y="10815"/>
                </a:cubicBezTo>
                <a:cubicBezTo>
                  <a:pt x="3696" y="10840"/>
                  <a:pt x="3696" y="10848"/>
                  <a:pt x="3721" y="10840"/>
                </a:cubicBezTo>
                <a:cubicBezTo>
                  <a:pt x="3752" y="10697"/>
                  <a:pt x="3764" y="10618"/>
                  <a:pt x="3671" y="10542"/>
                </a:cubicBezTo>
                <a:cubicBezTo>
                  <a:pt x="3654" y="10525"/>
                  <a:pt x="3638" y="10509"/>
                  <a:pt x="3621" y="10492"/>
                </a:cubicBezTo>
              </a:path>
              <a:path w="5309" h="2531">
                <a:moveTo>
                  <a:pt x="3671" y="10319"/>
                </a:moveTo>
                <a:cubicBezTo>
                  <a:pt x="3682" y="10352"/>
                  <a:pt x="3713" y="10459"/>
                  <a:pt x="3770" y="10443"/>
                </a:cubicBezTo>
                <a:cubicBezTo>
                  <a:pt x="3842" y="10422"/>
                  <a:pt x="3857" y="10333"/>
                  <a:pt x="3870" y="10269"/>
                </a:cubicBezTo>
                <a:cubicBezTo>
                  <a:pt x="3870" y="10339"/>
                  <a:pt x="3889" y="10418"/>
                  <a:pt x="3944" y="10468"/>
                </a:cubicBezTo>
                <a:cubicBezTo>
                  <a:pt x="3991" y="10468"/>
                  <a:pt x="4011" y="10450"/>
                  <a:pt x="4018" y="10393"/>
                </a:cubicBezTo>
              </a:path>
              <a:path w="5309" h="2531">
                <a:moveTo>
                  <a:pt x="4043" y="10344"/>
                </a:moveTo>
                <a:cubicBezTo>
                  <a:pt x="4067" y="10328"/>
                  <a:pt x="4186" y="10286"/>
                  <a:pt x="4192" y="10269"/>
                </a:cubicBezTo>
                <a:cubicBezTo>
                  <a:pt x="4192" y="10228"/>
                  <a:pt x="4184" y="10212"/>
                  <a:pt x="4217" y="10220"/>
                </a:cubicBezTo>
                <a:cubicBezTo>
                  <a:pt x="4158" y="10195"/>
                  <a:pt x="4077" y="10184"/>
                  <a:pt x="4068" y="10294"/>
                </a:cubicBezTo>
                <a:cubicBezTo>
                  <a:pt x="4056" y="10443"/>
                  <a:pt x="4253" y="10435"/>
                  <a:pt x="4316" y="10344"/>
                </a:cubicBezTo>
                <a:cubicBezTo>
                  <a:pt x="4333" y="10303"/>
                  <a:pt x="4349" y="10261"/>
                  <a:pt x="4366" y="10220"/>
                </a:cubicBezTo>
              </a:path>
              <a:path w="5309" h="2531">
                <a:moveTo>
                  <a:pt x="4390" y="10170"/>
                </a:moveTo>
                <a:cubicBezTo>
                  <a:pt x="4394" y="10200"/>
                  <a:pt x="4424" y="10346"/>
                  <a:pt x="4415" y="10269"/>
                </a:cubicBezTo>
                <a:cubicBezTo>
                  <a:pt x="4408" y="10214"/>
                  <a:pt x="4415" y="10152"/>
                  <a:pt x="4415" y="10096"/>
                </a:cubicBezTo>
                <a:cubicBezTo>
                  <a:pt x="4520" y="10117"/>
                  <a:pt x="4607" y="10150"/>
                  <a:pt x="4638" y="10269"/>
                </a:cubicBezTo>
                <a:cubicBezTo>
                  <a:pt x="4638" y="10311"/>
                  <a:pt x="4630" y="10327"/>
                  <a:pt x="4663" y="10319"/>
                </a:cubicBezTo>
              </a:path>
              <a:path w="5309" h="2531">
                <a:moveTo>
                  <a:pt x="4862" y="10096"/>
                </a:moveTo>
                <a:cubicBezTo>
                  <a:pt x="4847" y="10052"/>
                  <a:pt x="4789" y="10061"/>
                  <a:pt x="4762" y="10120"/>
                </a:cubicBezTo>
                <a:cubicBezTo>
                  <a:pt x="4740" y="10212"/>
                  <a:pt x="4729" y="10237"/>
                  <a:pt x="4762" y="10294"/>
                </a:cubicBezTo>
                <a:cubicBezTo>
                  <a:pt x="4871" y="10282"/>
                  <a:pt x="4933" y="10263"/>
                  <a:pt x="4961" y="10145"/>
                </a:cubicBezTo>
                <a:cubicBezTo>
                  <a:pt x="4961" y="10104"/>
                  <a:pt x="4961" y="10080"/>
                  <a:pt x="4961" y="10120"/>
                </a:cubicBezTo>
                <a:cubicBezTo>
                  <a:pt x="4973" y="10135"/>
                  <a:pt x="5049" y="10266"/>
                  <a:pt x="5060" y="10244"/>
                </a:cubicBezTo>
                <a:cubicBezTo>
                  <a:pt x="5081" y="10160"/>
                  <a:pt x="5082" y="10141"/>
                  <a:pt x="5110" y="10096"/>
                </a:cubicBezTo>
                <a:cubicBezTo>
                  <a:pt x="5196" y="10191"/>
                  <a:pt x="5271" y="10304"/>
                  <a:pt x="5308" y="10418"/>
                </a:cubicBezTo>
                <a:cubicBezTo>
                  <a:pt x="5308" y="10470"/>
                  <a:pt x="5309" y="10488"/>
                  <a:pt x="5333" y="1051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53040" y="2152800"/>
            <a:ext cx="650880" cy="231480"/>
          </a:xfrm>
          <a:custGeom>
            <a:avLst/>
            <a:gdLst/>
            <a:ahLst/>
            <a:rect l="l" t="t" r="r" b="b"/>
            <a:pathLst>
              <a:path w="1812" h="646">
                <a:moveTo>
                  <a:pt x="14312" y="6598"/>
                </a:moveTo>
                <a:cubicBezTo>
                  <a:pt x="14530" y="6609"/>
                  <a:pt x="14727" y="6543"/>
                  <a:pt x="14957" y="6449"/>
                </a:cubicBezTo>
                <a:cubicBezTo>
                  <a:pt x="15013" y="6426"/>
                  <a:pt x="16080" y="5904"/>
                  <a:pt x="16123" y="5978"/>
                </a:cubicBezTo>
                <a:cubicBezTo>
                  <a:pt x="16123" y="6037"/>
                  <a:pt x="16116" y="6078"/>
                  <a:pt x="16098" y="612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4200" y="6465960"/>
            <a:ext cx="17640" cy="7920"/>
          </a:xfrm>
          <a:custGeom>
            <a:avLst/>
            <a:gdLst/>
            <a:ahLst/>
            <a:rect l="l" t="t" r="r" b="b"/>
            <a:pathLst>
              <a:path w="50" h="25">
                <a:moveTo>
                  <a:pt x="3845" y="17959"/>
                </a:moveTo>
                <a:cubicBezTo>
                  <a:pt x="3867" y="17981"/>
                  <a:pt x="3872" y="17989"/>
                  <a:pt x="3894" y="1798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mber of siblings each student has: 1, 4, 3, 3, 2, 1, 1, 1, 1, 1, 2, 1, 2, 3, 2, 1, 2, 1, 1,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830160" y="2224080"/>
            <a:ext cx="4152960" cy="2241720"/>
          </a:xfrm>
          <a:custGeom>
            <a:avLst/>
            <a:gdLst/>
            <a:ahLst/>
            <a:rect l="l" t="t" r="r" b="b"/>
            <a:pathLst>
              <a:path w="11535" h="6227">
                <a:moveTo>
                  <a:pt x="2580" y="12378"/>
                </a:moveTo>
                <a:cubicBezTo>
                  <a:pt x="2588" y="12386"/>
                  <a:pt x="2596" y="12394"/>
                  <a:pt x="2604" y="12402"/>
                </a:cubicBezTo>
              </a:path>
              <a:path w="11535" h="6227">
                <a:moveTo>
                  <a:pt x="6077" y="10120"/>
                </a:moveTo>
                <a:cubicBezTo>
                  <a:pt x="6093" y="10175"/>
                  <a:pt x="6097" y="10275"/>
                  <a:pt x="6127" y="10244"/>
                </a:cubicBezTo>
              </a:path>
              <a:path w="11535" h="6227">
                <a:moveTo>
                  <a:pt x="6052" y="9872"/>
                </a:moveTo>
                <a:cubicBezTo>
                  <a:pt x="6060" y="9872"/>
                  <a:pt x="6069" y="9872"/>
                  <a:pt x="6077" y="9872"/>
                </a:cubicBezTo>
              </a:path>
              <a:path w="11535" h="6227">
                <a:moveTo>
                  <a:pt x="6077" y="9872"/>
                </a:moveTo>
                <a:lnTo>
                  <a:pt x="6077" y="9872"/>
                </a:lnTo>
              </a:path>
              <a:path w="11535" h="6227">
                <a:moveTo>
                  <a:pt x="6945" y="10120"/>
                </a:moveTo>
                <a:cubicBezTo>
                  <a:pt x="6977" y="10175"/>
                  <a:pt x="6995" y="10294"/>
                  <a:pt x="7020" y="10269"/>
                </a:cubicBezTo>
              </a:path>
              <a:path w="11535" h="6227">
                <a:moveTo>
                  <a:pt x="6995" y="10021"/>
                </a:moveTo>
                <a:cubicBezTo>
                  <a:pt x="6967" y="10021"/>
                  <a:pt x="6961" y="10019"/>
                  <a:pt x="6995" y="9996"/>
                </a:cubicBezTo>
              </a:path>
              <a:path w="11535" h="6227">
                <a:moveTo>
                  <a:pt x="6995" y="9996"/>
                </a:moveTo>
                <a:lnTo>
                  <a:pt x="6995" y="9996"/>
                </a:lnTo>
              </a:path>
              <a:path w="11535" h="6227">
                <a:moveTo>
                  <a:pt x="10765" y="6251"/>
                </a:moveTo>
                <a:cubicBezTo>
                  <a:pt x="10486" y="6443"/>
                  <a:pt x="10259" y="6771"/>
                  <a:pt x="10046" y="7045"/>
                </a:cubicBezTo>
                <a:cubicBezTo>
                  <a:pt x="9968" y="7146"/>
                  <a:pt x="9931" y="7244"/>
                  <a:pt x="9922" y="7268"/>
                </a:cubicBezTo>
              </a:path>
              <a:path w="11535" h="6227">
                <a:moveTo>
                  <a:pt x="13841" y="6176"/>
                </a:moveTo>
                <a:cubicBezTo>
                  <a:pt x="13601" y="6401"/>
                  <a:pt x="13430" y="6680"/>
                  <a:pt x="13271" y="6970"/>
                </a:cubicBezTo>
                <a:cubicBezTo>
                  <a:pt x="13173" y="7148"/>
                  <a:pt x="13136" y="7296"/>
                  <a:pt x="13097" y="7491"/>
                </a:cubicBezTo>
              </a:path>
              <a:path w="11535" h="6227">
                <a:moveTo>
                  <a:pt x="5333" y="9451"/>
                </a:moveTo>
                <a:cubicBezTo>
                  <a:pt x="5333" y="9459"/>
                  <a:pt x="5333" y="9467"/>
                  <a:pt x="5333" y="9475"/>
                </a:cubicBezTo>
              </a:path>
              <a:path w="11535" h="6227">
                <a:moveTo>
                  <a:pt x="3200" y="7367"/>
                </a:moveTo>
                <a:cubicBezTo>
                  <a:pt x="3130" y="7584"/>
                  <a:pt x="2877" y="7984"/>
                  <a:pt x="2704" y="8210"/>
                </a:cubicBezTo>
                <a:cubicBezTo>
                  <a:pt x="2566" y="8390"/>
                  <a:pt x="2379" y="8723"/>
                  <a:pt x="2332" y="855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1160" y="2152800"/>
            <a:ext cx="6456600" cy="3527280"/>
          </a:xfrm>
          <a:custGeom>
            <a:avLst/>
            <a:gdLst/>
            <a:ahLst/>
            <a:rect l="l" t="t" r="r" b="b"/>
            <a:pathLst>
              <a:path w="17935" h="9799">
                <a:moveTo>
                  <a:pt x="3944" y="9872"/>
                </a:moveTo>
                <a:cubicBezTo>
                  <a:pt x="3942" y="9886"/>
                  <a:pt x="3872" y="9995"/>
                  <a:pt x="3870" y="10046"/>
                </a:cubicBezTo>
                <a:cubicBezTo>
                  <a:pt x="3857" y="10323"/>
                  <a:pt x="3892" y="10610"/>
                  <a:pt x="3894" y="10889"/>
                </a:cubicBezTo>
                <a:cubicBezTo>
                  <a:pt x="3898" y="11444"/>
                  <a:pt x="3889" y="11996"/>
                  <a:pt x="3894" y="12551"/>
                </a:cubicBezTo>
                <a:cubicBezTo>
                  <a:pt x="3897" y="12949"/>
                  <a:pt x="3884" y="13345"/>
                  <a:pt x="3870" y="13742"/>
                </a:cubicBezTo>
                <a:cubicBezTo>
                  <a:pt x="3855" y="14164"/>
                  <a:pt x="3848" y="14584"/>
                  <a:pt x="3845" y="15007"/>
                </a:cubicBezTo>
                <a:cubicBezTo>
                  <a:pt x="3844" y="15192"/>
                  <a:pt x="3837" y="15373"/>
                  <a:pt x="3820" y="15553"/>
                </a:cubicBezTo>
                <a:cubicBezTo>
                  <a:pt x="3814" y="15618"/>
                  <a:pt x="3799" y="15626"/>
                  <a:pt x="3795" y="15677"/>
                </a:cubicBezTo>
                <a:cubicBezTo>
                  <a:pt x="3890" y="15681"/>
                  <a:pt x="3968" y="15699"/>
                  <a:pt x="4068" y="15701"/>
                </a:cubicBezTo>
                <a:cubicBezTo>
                  <a:pt x="5626" y="15739"/>
                  <a:pt x="7180" y="15650"/>
                  <a:pt x="8731" y="15677"/>
                </a:cubicBezTo>
                <a:cubicBezTo>
                  <a:pt x="9253" y="15686"/>
                  <a:pt x="9769" y="15746"/>
                  <a:pt x="10294" y="15726"/>
                </a:cubicBezTo>
                <a:cubicBezTo>
                  <a:pt x="11369" y="15685"/>
                  <a:pt x="12443" y="15641"/>
                  <a:pt x="13519" y="15602"/>
                </a:cubicBezTo>
                <a:cubicBezTo>
                  <a:pt x="14303" y="15574"/>
                  <a:pt x="15090" y="15558"/>
                  <a:pt x="15875" y="15553"/>
                </a:cubicBezTo>
                <a:cubicBezTo>
                  <a:pt x="16728" y="15547"/>
                  <a:pt x="17580" y="15621"/>
                  <a:pt x="18430" y="15602"/>
                </a:cubicBezTo>
                <a:cubicBezTo>
                  <a:pt x="18705" y="15596"/>
                  <a:pt x="18976" y="15572"/>
                  <a:pt x="19248" y="15553"/>
                </a:cubicBezTo>
                <a:cubicBezTo>
                  <a:pt x="19380" y="15544"/>
                  <a:pt x="19522" y="15556"/>
                  <a:pt x="19645" y="15553"/>
                </a:cubicBezTo>
                <a:cubicBezTo>
                  <a:pt x="19653" y="15553"/>
                  <a:pt x="19662" y="15553"/>
                  <a:pt x="19670" y="15553"/>
                </a:cubicBezTo>
                <a:cubicBezTo>
                  <a:pt x="19684" y="15471"/>
                  <a:pt x="19705" y="15351"/>
                  <a:pt x="19720" y="15255"/>
                </a:cubicBezTo>
                <a:cubicBezTo>
                  <a:pt x="19897" y="14114"/>
                  <a:pt x="20053" y="12974"/>
                  <a:pt x="20216" y="11832"/>
                </a:cubicBezTo>
                <a:cubicBezTo>
                  <a:pt x="20286" y="11337"/>
                  <a:pt x="20540" y="10697"/>
                  <a:pt x="20464" y="10195"/>
                </a:cubicBezTo>
                <a:cubicBezTo>
                  <a:pt x="20453" y="10120"/>
                  <a:pt x="20443" y="10018"/>
                  <a:pt x="20414" y="9947"/>
                </a:cubicBezTo>
                <a:cubicBezTo>
                  <a:pt x="20407" y="9930"/>
                  <a:pt x="20308" y="9792"/>
                  <a:pt x="20290" y="9773"/>
                </a:cubicBezTo>
                <a:cubicBezTo>
                  <a:pt x="20246" y="9727"/>
                  <a:pt x="20282" y="9752"/>
                  <a:pt x="20191" y="9699"/>
                </a:cubicBezTo>
                <a:cubicBezTo>
                  <a:pt x="19913" y="9538"/>
                  <a:pt x="19413" y="9572"/>
                  <a:pt x="19100" y="9550"/>
                </a:cubicBezTo>
                <a:cubicBezTo>
                  <a:pt x="18795" y="9529"/>
                  <a:pt x="18488" y="9527"/>
                  <a:pt x="18182" y="9525"/>
                </a:cubicBezTo>
                <a:cubicBezTo>
                  <a:pt x="17168" y="9519"/>
                  <a:pt x="16165" y="9543"/>
                  <a:pt x="15156" y="9649"/>
                </a:cubicBezTo>
                <a:cubicBezTo>
                  <a:pt x="14727" y="9694"/>
                  <a:pt x="14296" y="9766"/>
                  <a:pt x="13866" y="9798"/>
                </a:cubicBezTo>
                <a:cubicBezTo>
                  <a:pt x="13461" y="9829"/>
                  <a:pt x="13056" y="9840"/>
                  <a:pt x="12650" y="9872"/>
                </a:cubicBezTo>
                <a:cubicBezTo>
                  <a:pt x="11740" y="9943"/>
                  <a:pt x="10877" y="9885"/>
                  <a:pt x="9971" y="9798"/>
                </a:cubicBezTo>
                <a:cubicBezTo>
                  <a:pt x="9185" y="9722"/>
                  <a:pt x="8398" y="9713"/>
                  <a:pt x="7615" y="9649"/>
                </a:cubicBezTo>
                <a:cubicBezTo>
                  <a:pt x="7350" y="9627"/>
                  <a:pt x="7085" y="9605"/>
                  <a:pt x="6821" y="9575"/>
                </a:cubicBezTo>
                <a:cubicBezTo>
                  <a:pt x="6630" y="9554"/>
                  <a:pt x="6443" y="9537"/>
                  <a:pt x="6251" y="9525"/>
                </a:cubicBezTo>
                <a:cubicBezTo>
                  <a:pt x="6061" y="9513"/>
                  <a:pt x="5869" y="9505"/>
                  <a:pt x="5680" y="9500"/>
                </a:cubicBezTo>
                <a:cubicBezTo>
                  <a:pt x="5268" y="9488"/>
                  <a:pt x="4890" y="9551"/>
                  <a:pt x="4490" y="9599"/>
                </a:cubicBezTo>
                <a:cubicBezTo>
                  <a:pt x="4351" y="9616"/>
                  <a:pt x="4125" y="9583"/>
                  <a:pt x="3994" y="9649"/>
                </a:cubicBezTo>
                <a:cubicBezTo>
                  <a:pt x="3941" y="9676"/>
                  <a:pt x="3806" y="9659"/>
                  <a:pt x="3770" y="9699"/>
                </a:cubicBezTo>
                <a:cubicBezTo>
                  <a:pt x="3723" y="9751"/>
                  <a:pt x="3821" y="9910"/>
                  <a:pt x="3795" y="9947"/>
                </a:cubicBezTo>
              </a:path>
              <a:path w="17935" h="9799">
                <a:moveTo>
                  <a:pt x="9252" y="9773"/>
                </a:moveTo>
                <a:cubicBezTo>
                  <a:pt x="9275" y="9866"/>
                  <a:pt x="9317" y="9989"/>
                  <a:pt x="9327" y="10096"/>
                </a:cubicBezTo>
                <a:cubicBezTo>
                  <a:pt x="9345" y="10288"/>
                  <a:pt x="9366" y="10475"/>
                  <a:pt x="9401" y="10666"/>
                </a:cubicBezTo>
                <a:cubicBezTo>
                  <a:pt x="9433" y="10840"/>
                  <a:pt x="9426" y="11010"/>
                  <a:pt x="9426" y="11187"/>
                </a:cubicBezTo>
                <a:cubicBezTo>
                  <a:pt x="9426" y="11373"/>
                  <a:pt x="9425" y="11550"/>
                  <a:pt x="9451" y="11733"/>
                </a:cubicBezTo>
                <a:cubicBezTo>
                  <a:pt x="9479" y="11932"/>
                  <a:pt x="9492" y="12130"/>
                  <a:pt x="9525" y="12328"/>
                </a:cubicBezTo>
                <a:cubicBezTo>
                  <a:pt x="9560" y="12542"/>
                  <a:pt x="9553" y="12758"/>
                  <a:pt x="9575" y="12973"/>
                </a:cubicBezTo>
                <a:cubicBezTo>
                  <a:pt x="9603" y="13247"/>
                  <a:pt x="9656" y="13518"/>
                  <a:pt x="9674" y="13791"/>
                </a:cubicBezTo>
                <a:cubicBezTo>
                  <a:pt x="9685" y="13968"/>
                  <a:pt x="9673" y="14135"/>
                  <a:pt x="9699" y="14312"/>
                </a:cubicBezTo>
                <a:cubicBezTo>
                  <a:pt x="9725" y="14485"/>
                  <a:pt x="9739" y="14659"/>
                  <a:pt x="9748" y="14833"/>
                </a:cubicBezTo>
                <a:cubicBezTo>
                  <a:pt x="9756" y="14992"/>
                  <a:pt x="9770" y="15147"/>
                  <a:pt x="9798" y="15304"/>
                </a:cubicBezTo>
                <a:cubicBezTo>
                  <a:pt x="9814" y="15395"/>
                  <a:pt x="9849" y="15537"/>
                  <a:pt x="9847" y="15627"/>
                </a:cubicBezTo>
                <a:cubicBezTo>
                  <a:pt x="9847" y="15679"/>
                  <a:pt x="9846" y="15697"/>
                  <a:pt x="9823" y="15726"/>
                </a:cubicBezTo>
                <a:cubicBezTo>
                  <a:pt x="9860" y="15615"/>
                  <a:pt x="9908" y="15471"/>
                  <a:pt x="9947" y="15354"/>
                </a:cubicBezTo>
              </a:path>
              <a:path w="17935" h="9799">
                <a:moveTo>
                  <a:pt x="14536" y="9823"/>
                </a:moveTo>
                <a:cubicBezTo>
                  <a:pt x="14544" y="9790"/>
                  <a:pt x="14552" y="9757"/>
                  <a:pt x="14560" y="9723"/>
                </a:cubicBezTo>
                <a:cubicBezTo>
                  <a:pt x="14560" y="10477"/>
                  <a:pt x="14585" y="11228"/>
                  <a:pt x="14585" y="11981"/>
                </a:cubicBezTo>
                <a:cubicBezTo>
                  <a:pt x="14585" y="12205"/>
                  <a:pt x="14589" y="12428"/>
                  <a:pt x="14610" y="12650"/>
                </a:cubicBezTo>
                <a:cubicBezTo>
                  <a:pt x="14632" y="12891"/>
                  <a:pt x="14673" y="13129"/>
                  <a:pt x="14684" y="13370"/>
                </a:cubicBezTo>
                <a:cubicBezTo>
                  <a:pt x="14697" y="13652"/>
                  <a:pt x="14728" y="13933"/>
                  <a:pt x="14759" y="14213"/>
                </a:cubicBezTo>
                <a:cubicBezTo>
                  <a:pt x="14797" y="14560"/>
                  <a:pt x="14838" y="14911"/>
                  <a:pt x="14883" y="15255"/>
                </a:cubicBezTo>
                <a:cubicBezTo>
                  <a:pt x="14890" y="15308"/>
                  <a:pt x="14900" y="15372"/>
                  <a:pt x="14908" y="15429"/>
                </a:cubicBezTo>
                <a:cubicBezTo>
                  <a:pt x="14917" y="15490"/>
                  <a:pt x="14927" y="15539"/>
                  <a:pt x="14932" y="15602"/>
                </a:cubicBezTo>
                <a:cubicBezTo>
                  <a:pt x="14935" y="15639"/>
                  <a:pt x="14956" y="15699"/>
                  <a:pt x="14957" y="15701"/>
                </a:cubicBezTo>
                <a:cubicBezTo>
                  <a:pt x="14957" y="15726"/>
                  <a:pt x="14957" y="15734"/>
                  <a:pt x="14957" y="15701"/>
                </a:cubicBezTo>
              </a:path>
              <a:path w="17935" h="9799">
                <a:moveTo>
                  <a:pt x="3324" y="6003"/>
                </a:moveTo>
                <a:cubicBezTo>
                  <a:pt x="3372" y="5979"/>
                  <a:pt x="3348" y="5982"/>
                  <a:pt x="3324" y="6028"/>
                </a:cubicBezTo>
                <a:cubicBezTo>
                  <a:pt x="3105" y="6446"/>
                  <a:pt x="2839" y="6825"/>
                  <a:pt x="2580" y="7218"/>
                </a:cubicBezTo>
                <a:cubicBezTo>
                  <a:pt x="2559" y="7250"/>
                  <a:pt x="2563" y="7255"/>
                  <a:pt x="2555" y="729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6120" y="2152800"/>
            <a:ext cx="5931000" cy="3411360"/>
          </a:xfrm>
          <a:custGeom>
            <a:avLst/>
            <a:gdLst/>
            <a:ahLst/>
            <a:rect l="l" t="t" r="r" b="b"/>
            <a:pathLst>
              <a:path w="16472" h="9476">
                <a:moveTo>
                  <a:pt x="4018" y="10641"/>
                </a:moveTo>
                <a:cubicBezTo>
                  <a:pt x="4171" y="10628"/>
                  <a:pt x="4316" y="10608"/>
                  <a:pt x="4465" y="10592"/>
                </a:cubicBezTo>
                <a:cubicBezTo>
                  <a:pt x="4792" y="10556"/>
                  <a:pt x="5130" y="10512"/>
                  <a:pt x="5457" y="10492"/>
                </a:cubicBezTo>
                <a:cubicBezTo>
                  <a:pt x="6033" y="10457"/>
                  <a:pt x="6627" y="10487"/>
                  <a:pt x="7193" y="10542"/>
                </a:cubicBezTo>
                <a:cubicBezTo>
                  <a:pt x="7342" y="10557"/>
                  <a:pt x="7492" y="10578"/>
                  <a:pt x="7640" y="10592"/>
                </a:cubicBezTo>
                <a:cubicBezTo>
                  <a:pt x="7799" y="10607"/>
                  <a:pt x="7952" y="10622"/>
                  <a:pt x="8111" y="10641"/>
                </a:cubicBezTo>
                <a:cubicBezTo>
                  <a:pt x="8292" y="10663"/>
                  <a:pt x="8474" y="10664"/>
                  <a:pt x="8657" y="10666"/>
                </a:cubicBezTo>
                <a:cubicBezTo>
                  <a:pt x="8779" y="10667"/>
                  <a:pt x="8909" y="10661"/>
                  <a:pt x="9029" y="10666"/>
                </a:cubicBezTo>
                <a:cubicBezTo>
                  <a:pt x="9156" y="10672"/>
                  <a:pt x="9272" y="10689"/>
                  <a:pt x="9401" y="10691"/>
                </a:cubicBezTo>
                <a:cubicBezTo>
                  <a:pt x="9758" y="10697"/>
                  <a:pt x="10115" y="10691"/>
                  <a:pt x="10468" y="10716"/>
                </a:cubicBezTo>
                <a:cubicBezTo>
                  <a:pt x="10601" y="10725"/>
                  <a:pt x="10731" y="10735"/>
                  <a:pt x="10864" y="10740"/>
                </a:cubicBezTo>
                <a:cubicBezTo>
                  <a:pt x="11171" y="10751"/>
                  <a:pt x="11474" y="10751"/>
                  <a:pt x="11782" y="10765"/>
                </a:cubicBezTo>
                <a:cubicBezTo>
                  <a:pt x="12021" y="10776"/>
                  <a:pt x="12263" y="10806"/>
                  <a:pt x="12502" y="10815"/>
                </a:cubicBezTo>
                <a:cubicBezTo>
                  <a:pt x="12803" y="10826"/>
                  <a:pt x="13098" y="10820"/>
                  <a:pt x="13395" y="10815"/>
                </a:cubicBezTo>
                <a:cubicBezTo>
                  <a:pt x="13695" y="10810"/>
                  <a:pt x="13989" y="10776"/>
                  <a:pt x="14288" y="10765"/>
                </a:cubicBezTo>
                <a:cubicBezTo>
                  <a:pt x="15026" y="10739"/>
                  <a:pt x="15761" y="10790"/>
                  <a:pt x="16495" y="10790"/>
                </a:cubicBezTo>
                <a:cubicBezTo>
                  <a:pt x="16977" y="10790"/>
                  <a:pt x="17456" y="10769"/>
                  <a:pt x="17934" y="10765"/>
                </a:cubicBezTo>
                <a:cubicBezTo>
                  <a:pt x="18706" y="10759"/>
                  <a:pt x="19503" y="10804"/>
                  <a:pt x="20265" y="10740"/>
                </a:cubicBezTo>
                <a:cubicBezTo>
                  <a:pt x="20344" y="10733"/>
                  <a:pt x="20414" y="10726"/>
                  <a:pt x="20489" y="10716"/>
                </a:cubicBezTo>
              </a:path>
              <a:path w="16472" h="9476">
                <a:moveTo>
                  <a:pt x="10244" y="14709"/>
                </a:moveTo>
                <a:cubicBezTo>
                  <a:pt x="10315" y="14662"/>
                  <a:pt x="10248" y="14893"/>
                  <a:pt x="10244" y="14932"/>
                </a:cubicBezTo>
                <a:cubicBezTo>
                  <a:pt x="10224" y="15108"/>
                  <a:pt x="10220" y="15276"/>
                  <a:pt x="10220" y="15453"/>
                </a:cubicBezTo>
              </a:path>
              <a:path w="16472" h="9476">
                <a:moveTo>
                  <a:pt x="6226" y="6028"/>
                </a:moveTo>
                <a:cubicBezTo>
                  <a:pt x="6097" y="6357"/>
                  <a:pt x="5920" y="6671"/>
                  <a:pt x="5730" y="6970"/>
                </a:cubicBezTo>
                <a:cubicBezTo>
                  <a:pt x="5646" y="7102"/>
                  <a:pt x="5556" y="7236"/>
                  <a:pt x="5482" y="7367"/>
                </a:cubicBezTo>
              </a:path>
              <a:path w="16472" h="9476">
                <a:moveTo>
                  <a:pt x="10244" y="13519"/>
                </a:moveTo>
                <a:cubicBezTo>
                  <a:pt x="10204" y="13641"/>
                  <a:pt x="10209" y="13825"/>
                  <a:pt x="10195" y="13965"/>
                </a:cubicBezTo>
                <a:cubicBezTo>
                  <a:pt x="10195" y="14007"/>
                  <a:pt x="10187" y="14023"/>
                  <a:pt x="10220" y="14015"/>
                </a:cubicBezTo>
              </a:path>
              <a:path w="16472" h="9476">
                <a:moveTo>
                  <a:pt x="7739" y="6251"/>
                </a:moveTo>
                <a:cubicBezTo>
                  <a:pt x="7555" y="6499"/>
                  <a:pt x="7354" y="6799"/>
                  <a:pt x="7169" y="7069"/>
                </a:cubicBezTo>
                <a:cubicBezTo>
                  <a:pt x="7057" y="7238"/>
                  <a:pt x="7054" y="7266"/>
                  <a:pt x="6970" y="7342"/>
                </a:cubicBezTo>
              </a:path>
              <a:path w="16472" h="9476">
                <a:moveTo>
                  <a:pt x="10691" y="13519"/>
                </a:moveTo>
                <a:cubicBezTo>
                  <a:pt x="10691" y="13386"/>
                  <a:pt x="10709" y="13733"/>
                  <a:pt x="10716" y="13866"/>
                </a:cubicBezTo>
                <a:cubicBezTo>
                  <a:pt x="10717" y="13877"/>
                  <a:pt x="10712" y="14166"/>
                  <a:pt x="10740" y="13965"/>
                </a:cubicBezTo>
              </a:path>
              <a:path w="16472" h="9476">
                <a:moveTo>
                  <a:pt x="9227" y="5978"/>
                </a:moveTo>
                <a:cubicBezTo>
                  <a:pt x="9087" y="6228"/>
                  <a:pt x="8928" y="6485"/>
                  <a:pt x="8756" y="6722"/>
                </a:cubicBezTo>
                <a:cubicBezTo>
                  <a:pt x="8689" y="6814"/>
                  <a:pt x="8411" y="7047"/>
                  <a:pt x="8508" y="7144"/>
                </a:cubicBezTo>
              </a:path>
              <a:path w="16472" h="9476">
                <a:moveTo>
                  <a:pt x="10071" y="12229"/>
                </a:moveTo>
                <a:cubicBezTo>
                  <a:pt x="10123" y="12400"/>
                  <a:pt x="10082" y="12572"/>
                  <a:pt x="10071" y="12750"/>
                </a:cubicBezTo>
                <a:cubicBezTo>
                  <a:pt x="10071" y="12783"/>
                  <a:pt x="10071" y="12816"/>
                  <a:pt x="10071" y="12849"/>
                </a:cubicBezTo>
              </a:path>
              <a:path w="16472" h="9476">
                <a:moveTo>
                  <a:pt x="12378" y="6077"/>
                </a:moveTo>
                <a:cubicBezTo>
                  <a:pt x="12227" y="6265"/>
                  <a:pt x="12099" y="6500"/>
                  <a:pt x="11956" y="6697"/>
                </a:cubicBezTo>
                <a:cubicBezTo>
                  <a:pt x="11791" y="6924"/>
                  <a:pt x="11725" y="7036"/>
                  <a:pt x="11658" y="7293"/>
                </a:cubicBezTo>
              </a:path>
              <a:path w="16472" h="9476">
                <a:moveTo>
                  <a:pt x="10492" y="12303"/>
                </a:moveTo>
                <a:cubicBezTo>
                  <a:pt x="10458" y="12478"/>
                  <a:pt x="10492" y="12726"/>
                  <a:pt x="10492" y="12923"/>
                </a:cubicBezTo>
                <a:cubicBezTo>
                  <a:pt x="10492" y="12992"/>
                  <a:pt x="10505" y="12995"/>
                  <a:pt x="10567" y="12898"/>
                </a:cubicBezTo>
              </a:path>
              <a:path w="16472" h="9476">
                <a:moveTo>
                  <a:pt x="10840" y="12328"/>
                </a:moveTo>
                <a:cubicBezTo>
                  <a:pt x="10840" y="12285"/>
                  <a:pt x="10865" y="12686"/>
                  <a:pt x="10864" y="12700"/>
                </a:cubicBezTo>
                <a:cubicBezTo>
                  <a:pt x="10856" y="12854"/>
                  <a:pt x="10778" y="12973"/>
                  <a:pt x="10889" y="12898"/>
                </a:cubicBezTo>
              </a:path>
              <a:path w="16472" h="9476">
                <a:moveTo>
                  <a:pt x="11137" y="13494"/>
                </a:moveTo>
                <a:cubicBezTo>
                  <a:pt x="11031" y="13573"/>
                  <a:pt x="11107" y="13794"/>
                  <a:pt x="11112" y="13915"/>
                </a:cubicBezTo>
                <a:cubicBezTo>
                  <a:pt x="11115" y="13986"/>
                  <a:pt x="11050" y="14208"/>
                  <a:pt x="11112" y="14114"/>
                </a:cubicBezTo>
              </a:path>
              <a:path w="16472" h="9476">
                <a:moveTo>
                  <a:pt x="11162" y="12402"/>
                </a:moveTo>
                <a:cubicBezTo>
                  <a:pt x="11224" y="12545"/>
                  <a:pt x="11224" y="12782"/>
                  <a:pt x="11237" y="12948"/>
                </a:cubicBezTo>
                <a:cubicBezTo>
                  <a:pt x="11237" y="13030"/>
                  <a:pt x="11237" y="13080"/>
                  <a:pt x="11237" y="12998"/>
                </a:cubicBezTo>
              </a:path>
              <a:path w="16472" h="9476">
                <a:moveTo>
                  <a:pt x="4887" y="7640"/>
                </a:moveTo>
                <a:cubicBezTo>
                  <a:pt x="4745" y="7974"/>
                  <a:pt x="4604" y="8311"/>
                  <a:pt x="4390" y="8607"/>
                </a:cubicBezTo>
                <a:cubicBezTo>
                  <a:pt x="4307" y="8690"/>
                  <a:pt x="4291" y="8706"/>
                  <a:pt x="4242" y="8756"/>
                </a:cubicBezTo>
              </a:path>
              <a:path w="16472" h="9476">
                <a:moveTo>
                  <a:pt x="6400" y="7491"/>
                </a:moveTo>
                <a:cubicBezTo>
                  <a:pt x="5994" y="7742"/>
                  <a:pt x="5686" y="8213"/>
                  <a:pt x="5308" y="8533"/>
                </a:cubicBezTo>
                <a:cubicBezTo>
                  <a:pt x="5186" y="8637"/>
                  <a:pt x="4984" y="8757"/>
                  <a:pt x="5110" y="8657"/>
                </a:cubicBezTo>
              </a:path>
              <a:path w="16472" h="9476">
                <a:moveTo>
                  <a:pt x="9872" y="12129"/>
                </a:moveTo>
                <a:cubicBezTo>
                  <a:pt x="10029" y="12174"/>
                  <a:pt x="10139" y="12202"/>
                  <a:pt x="10294" y="12254"/>
                </a:cubicBezTo>
                <a:cubicBezTo>
                  <a:pt x="10662" y="12378"/>
                  <a:pt x="11037" y="12527"/>
                  <a:pt x="11385" y="12700"/>
                </a:cubicBezTo>
                <a:cubicBezTo>
                  <a:pt x="11466" y="12740"/>
                  <a:pt x="11588" y="12802"/>
                  <a:pt x="11658" y="12849"/>
                </a:cubicBezTo>
                <a:cubicBezTo>
                  <a:pt x="11658" y="12874"/>
                  <a:pt x="11658" y="12882"/>
                  <a:pt x="11683" y="12874"/>
                </a:cubicBezTo>
              </a:path>
              <a:path w="16472" h="9476">
                <a:moveTo>
                  <a:pt x="7813" y="7863"/>
                </a:moveTo>
                <a:cubicBezTo>
                  <a:pt x="7845" y="7785"/>
                  <a:pt x="7859" y="7768"/>
                  <a:pt x="7863" y="7689"/>
                </a:cubicBezTo>
                <a:cubicBezTo>
                  <a:pt x="7863" y="7673"/>
                  <a:pt x="7863" y="7656"/>
                  <a:pt x="7863" y="7640"/>
                </a:cubicBezTo>
                <a:cubicBezTo>
                  <a:pt x="7602" y="7855"/>
                  <a:pt x="7432" y="8125"/>
                  <a:pt x="7218" y="8409"/>
                </a:cubicBezTo>
                <a:cubicBezTo>
                  <a:pt x="7087" y="8584"/>
                  <a:pt x="6816" y="8935"/>
                  <a:pt x="6970" y="8781"/>
                </a:cubicBezTo>
              </a:path>
              <a:path w="16472" h="9476">
                <a:moveTo>
                  <a:pt x="9203" y="7615"/>
                </a:moveTo>
                <a:cubicBezTo>
                  <a:pt x="9021" y="7888"/>
                  <a:pt x="8792" y="8137"/>
                  <a:pt x="8607" y="8409"/>
                </a:cubicBezTo>
                <a:cubicBezTo>
                  <a:pt x="8531" y="8520"/>
                  <a:pt x="8491" y="8609"/>
                  <a:pt x="8434" y="8731"/>
                </a:cubicBezTo>
              </a:path>
              <a:path w="16472" h="9476">
                <a:moveTo>
                  <a:pt x="11013" y="7541"/>
                </a:moveTo>
                <a:cubicBezTo>
                  <a:pt x="10846" y="7608"/>
                  <a:pt x="10829" y="7716"/>
                  <a:pt x="10716" y="7888"/>
                </a:cubicBezTo>
                <a:cubicBezTo>
                  <a:pt x="10520" y="8185"/>
                  <a:pt x="10240" y="8517"/>
                  <a:pt x="10071" y="8806"/>
                </a:cubicBezTo>
                <a:cubicBezTo>
                  <a:pt x="10087" y="8798"/>
                  <a:pt x="10104" y="8789"/>
                  <a:pt x="10120" y="8781"/>
                </a:cubicBezTo>
              </a:path>
              <a:path w="16472" h="9476">
                <a:moveTo>
                  <a:pt x="12254" y="12551"/>
                </a:moveTo>
                <a:cubicBezTo>
                  <a:pt x="12223" y="12738"/>
                  <a:pt x="12254" y="12970"/>
                  <a:pt x="12254" y="13171"/>
                </a:cubicBezTo>
                <a:cubicBezTo>
                  <a:pt x="12254" y="13214"/>
                  <a:pt x="12294" y="13363"/>
                  <a:pt x="12254" y="13196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11200" y="2160720"/>
            <a:ext cx="2776680" cy="3751200"/>
          </a:xfrm>
          <a:custGeom>
            <a:avLst/>
            <a:gdLst/>
            <a:ahLst/>
            <a:rect l="l" t="t" r="r" b="b"/>
            <a:pathLst>
              <a:path w="7715" h="10419">
                <a:moveTo>
                  <a:pt x="11633" y="10195"/>
                </a:moveTo>
                <a:lnTo>
                  <a:pt x="11633" y="10195"/>
                </a:lnTo>
              </a:path>
              <a:path w="7715" h="10419">
                <a:moveTo>
                  <a:pt x="4366" y="9823"/>
                </a:moveTo>
                <a:cubicBezTo>
                  <a:pt x="4406" y="9928"/>
                  <a:pt x="4430" y="10006"/>
                  <a:pt x="4440" y="10120"/>
                </a:cubicBezTo>
              </a:path>
              <a:path w="7715" h="10419">
                <a:moveTo>
                  <a:pt x="4093" y="10071"/>
                </a:moveTo>
                <a:cubicBezTo>
                  <a:pt x="4208" y="10035"/>
                  <a:pt x="4323" y="10002"/>
                  <a:pt x="4440" y="9971"/>
                </a:cubicBezTo>
              </a:path>
              <a:path w="7715" h="10419">
                <a:moveTo>
                  <a:pt x="5234" y="9847"/>
                </a:moveTo>
                <a:cubicBezTo>
                  <a:pt x="5082" y="9971"/>
                  <a:pt x="5106" y="10036"/>
                  <a:pt x="5184" y="10220"/>
                </a:cubicBezTo>
                <a:cubicBezTo>
                  <a:pt x="5201" y="10253"/>
                  <a:pt x="5217" y="10286"/>
                  <a:pt x="5234" y="10319"/>
                </a:cubicBezTo>
              </a:path>
              <a:path w="7715" h="10419">
                <a:moveTo>
                  <a:pt x="5060" y="10145"/>
                </a:moveTo>
                <a:cubicBezTo>
                  <a:pt x="5181" y="10140"/>
                  <a:pt x="5288" y="10131"/>
                  <a:pt x="5407" y="10120"/>
                </a:cubicBezTo>
              </a:path>
              <a:path w="7715" h="10419">
                <a:moveTo>
                  <a:pt x="7913" y="16396"/>
                </a:moveTo>
                <a:cubicBezTo>
                  <a:pt x="7913" y="16429"/>
                  <a:pt x="7921" y="16437"/>
                  <a:pt x="7962" y="16421"/>
                </a:cubicBezTo>
              </a:path>
              <a:path w="7715" h="10419">
                <a:moveTo>
                  <a:pt x="4738" y="6003"/>
                </a:moveTo>
                <a:cubicBezTo>
                  <a:pt x="4645" y="6324"/>
                  <a:pt x="4413" y="6624"/>
                  <a:pt x="4217" y="6896"/>
                </a:cubicBezTo>
                <a:cubicBezTo>
                  <a:pt x="4117" y="7035"/>
                  <a:pt x="4034" y="7128"/>
                  <a:pt x="3919" y="724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73120" y="3554280"/>
            <a:ext cx="304920" cy="169920"/>
          </a:xfrm>
          <a:custGeom>
            <a:avLst/>
            <a:gdLst/>
            <a:ahLst/>
            <a:rect l="l" t="t" r="r" b="b"/>
            <a:pathLst>
              <a:path w="844" h="473">
                <a:moveTo>
                  <a:pt x="4167" y="9897"/>
                </a:moveTo>
                <a:cubicBezTo>
                  <a:pt x="4167" y="9861"/>
                  <a:pt x="4228" y="10085"/>
                  <a:pt x="4242" y="10145"/>
                </a:cubicBezTo>
                <a:cubicBezTo>
                  <a:pt x="4242" y="10178"/>
                  <a:pt x="4242" y="10178"/>
                  <a:pt x="4242" y="10120"/>
                </a:cubicBezTo>
              </a:path>
              <a:path w="844" h="473">
                <a:moveTo>
                  <a:pt x="4093" y="10170"/>
                </a:moveTo>
                <a:cubicBezTo>
                  <a:pt x="4232" y="10139"/>
                  <a:pt x="4391" y="10126"/>
                  <a:pt x="4514" y="10071"/>
                </a:cubicBezTo>
              </a:path>
              <a:path w="844" h="473">
                <a:moveTo>
                  <a:pt x="4911" y="10244"/>
                </a:moveTo>
                <a:cubicBezTo>
                  <a:pt x="4792" y="10244"/>
                  <a:pt x="4775" y="10257"/>
                  <a:pt x="4688" y="10344"/>
                </a:cubicBezTo>
                <a:cubicBezTo>
                  <a:pt x="4715" y="10343"/>
                  <a:pt x="5060" y="10338"/>
                  <a:pt x="4936" y="10195"/>
                </a:cubicBezTo>
                <a:cubicBezTo>
                  <a:pt x="4869" y="10172"/>
                  <a:pt x="4851" y="10167"/>
                  <a:pt x="4812" y="1014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27160" y="3527280"/>
            <a:ext cx="1000080" cy="2036880"/>
          </a:xfrm>
          <a:custGeom>
            <a:avLst/>
            <a:gdLst/>
            <a:ahLst/>
            <a:rect l="l" t="t" r="r" b="b"/>
            <a:pathLst>
              <a:path w="2779" h="5656">
                <a:moveTo>
                  <a:pt x="5953" y="9922"/>
                </a:moveTo>
                <a:cubicBezTo>
                  <a:pt x="5809" y="9904"/>
                  <a:pt x="5764" y="9911"/>
                  <a:pt x="5631" y="9971"/>
                </a:cubicBezTo>
                <a:cubicBezTo>
                  <a:pt x="5746" y="9994"/>
                  <a:pt x="5898" y="9990"/>
                  <a:pt x="5978" y="10096"/>
                </a:cubicBezTo>
                <a:cubicBezTo>
                  <a:pt x="6084" y="10236"/>
                  <a:pt x="5693" y="10242"/>
                  <a:pt x="5655" y="10244"/>
                </a:cubicBezTo>
                <a:cubicBezTo>
                  <a:pt x="5609" y="10244"/>
                  <a:pt x="5619" y="10232"/>
                  <a:pt x="5705" y="10195"/>
                </a:cubicBezTo>
              </a:path>
              <a:path w="2779" h="5656">
                <a:moveTo>
                  <a:pt x="6251" y="9798"/>
                </a:moveTo>
                <a:cubicBezTo>
                  <a:pt x="6305" y="9954"/>
                  <a:pt x="6351" y="10111"/>
                  <a:pt x="6400" y="10269"/>
                </a:cubicBezTo>
                <a:cubicBezTo>
                  <a:pt x="6400" y="10400"/>
                  <a:pt x="6376" y="10141"/>
                  <a:pt x="6400" y="10096"/>
                </a:cubicBezTo>
                <a:cubicBezTo>
                  <a:pt x="6496" y="9920"/>
                  <a:pt x="6717" y="10146"/>
                  <a:pt x="6623" y="10269"/>
                </a:cubicBezTo>
                <a:cubicBezTo>
                  <a:pt x="6540" y="10378"/>
                  <a:pt x="6474" y="10302"/>
                  <a:pt x="6424" y="10244"/>
                </a:cubicBezTo>
              </a:path>
              <a:path w="2779" h="5656">
                <a:moveTo>
                  <a:pt x="6747" y="9872"/>
                </a:moveTo>
                <a:cubicBezTo>
                  <a:pt x="6773" y="10028"/>
                  <a:pt x="6795" y="10216"/>
                  <a:pt x="6846" y="10368"/>
                </a:cubicBezTo>
                <a:cubicBezTo>
                  <a:pt x="6846" y="10352"/>
                  <a:pt x="6846" y="10335"/>
                  <a:pt x="6846" y="10319"/>
                </a:cubicBezTo>
              </a:path>
              <a:path w="2779" h="5656">
                <a:moveTo>
                  <a:pt x="7144" y="10220"/>
                </a:moveTo>
                <a:cubicBezTo>
                  <a:pt x="7152" y="10253"/>
                  <a:pt x="7161" y="10286"/>
                  <a:pt x="7169" y="10319"/>
                </a:cubicBezTo>
                <a:cubicBezTo>
                  <a:pt x="7169" y="10217"/>
                  <a:pt x="7192" y="10100"/>
                  <a:pt x="7293" y="10046"/>
                </a:cubicBezTo>
                <a:cubicBezTo>
                  <a:pt x="7463" y="9955"/>
                  <a:pt x="7482" y="10264"/>
                  <a:pt x="7491" y="10344"/>
                </a:cubicBezTo>
              </a:path>
              <a:path w="2779" h="5656">
                <a:moveTo>
                  <a:pt x="7665" y="10071"/>
                </a:moveTo>
                <a:cubicBezTo>
                  <a:pt x="7655" y="10099"/>
                  <a:pt x="7565" y="10475"/>
                  <a:pt x="7714" y="10319"/>
                </a:cubicBezTo>
                <a:cubicBezTo>
                  <a:pt x="7780" y="10250"/>
                  <a:pt x="7764" y="10180"/>
                  <a:pt x="7764" y="10096"/>
                </a:cubicBezTo>
                <a:cubicBezTo>
                  <a:pt x="7813" y="10256"/>
                  <a:pt x="7865" y="10484"/>
                  <a:pt x="7764" y="10641"/>
                </a:cubicBezTo>
                <a:cubicBezTo>
                  <a:pt x="7679" y="10773"/>
                  <a:pt x="7570" y="10728"/>
                  <a:pt x="7466" y="10691"/>
                </a:cubicBezTo>
              </a:path>
              <a:path w="2779" h="5656">
                <a:moveTo>
                  <a:pt x="8210" y="10096"/>
                </a:moveTo>
                <a:cubicBezTo>
                  <a:pt x="8194" y="10096"/>
                  <a:pt x="8177" y="10096"/>
                  <a:pt x="8161" y="10096"/>
                </a:cubicBezTo>
                <a:cubicBezTo>
                  <a:pt x="8119" y="10156"/>
                  <a:pt x="8329" y="10218"/>
                  <a:pt x="8384" y="10269"/>
                </a:cubicBezTo>
                <a:cubicBezTo>
                  <a:pt x="8535" y="10407"/>
                  <a:pt x="8088" y="10326"/>
                  <a:pt x="8062" y="10319"/>
                </a:cubicBezTo>
              </a:path>
              <a:path w="2779" h="5656">
                <a:moveTo>
                  <a:pt x="6325" y="10790"/>
                </a:moveTo>
                <a:cubicBezTo>
                  <a:pt x="6247" y="10887"/>
                  <a:pt x="6258" y="11166"/>
                  <a:pt x="6251" y="11311"/>
                </a:cubicBezTo>
                <a:cubicBezTo>
                  <a:pt x="6247" y="11392"/>
                  <a:pt x="6251" y="11477"/>
                  <a:pt x="6251" y="11559"/>
                </a:cubicBezTo>
              </a:path>
              <a:path w="2779" h="5656">
                <a:moveTo>
                  <a:pt x="5978" y="14635"/>
                </a:moveTo>
                <a:cubicBezTo>
                  <a:pt x="6023" y="14725"/>
                  <a:pt x="5989" y="14841"/>
                  <a:pt x="5953" y="14957"/>
                </a:cubicBezTo>
                <a:cubicBezTo>
                  <a:pt x="6097" y="14973"/>
                  <a:pt x="6218" y="14972"/>
                  <a:pt x="6350" y="14908"/>
                </a:cubicBezTo>
              </a:path>
              <a:path w="2779" h="5656">
                <a:moveTo>
                  <a:pt x="6325" y="14511"/>
                </a:moveTo>
                <a:cubicBezTo>
                  <a:pt x="6251" y="14751"/>
                  <a:pt x="6276" y="15004"/>
                  <a:pt x="6276" y="15255"/>
                </a:cubicBezTo>
                <a:cubicBezTo>
                  <a:pt x="6276" y="15371"/>
                  <a:pt x="6276" y="15387"/>
                  <a:pt x="6276" y="15453"/>
                </a:cubicBezTo>
              </a:path>
              <a:path w="2779" h="5656">
                <a:moveTo>
                  <a:pt x="6003" y="12303"/>
                </a:moveTo>
                <a:cubicBezTo>
                  <a:pt x="6105" y="12277"/>
                  <a:pt x="6194" y="12157"/>
                  <a:pt x="6300" y="12129"/>
                </a:cubicBezTo>
                <a:cubicBezTo>
                  <a:pt x="6409" y="12129"/>
                  <a:pt x="6446" y="12115"/>
                  <a:pt x="6449" y="12204"/>
                </a:cubicBezTo>
                <a:cubicBezTo>
                  <a:pt x="6364" y="12396"/>
                  <a:pt x="6226" y="12567"/>
                  <a:pt x="6052" y="12700"/>
                </a:cubicBezTo>
                <a:cubicBezTo>
                  <a:pt x="6044" y="12700"/>
                  <a:pt x="6036" y="12700"/>
                  <a:pt x="6028" y="12700"/>
                </a:cubicBezTo>
                <a:cubicBezTo>
                  <a:pt x="6193" y="12681"/>
                  <a:pt x="6363" y="12642"/>
                  <a:pt x="6524" y="12601"/>
                </a:cubicBezTo>
                <a:cubicBezTo>
                  <a:pt x="6589" y="12579"/>
                  <a:pt x="6614" y="12561"/>
                  <a:pt x="6598" y="12626"/>
                </a:cubicBezTo>
              </a:path>
              <a:path w="2779" h="5656">
                <a:moveTo>
                  <a:pt x="5879" y="13494"/>
                </a:moveTo>
                <a:cubicBezTo>
                  <a:pt x="5996" y="13450"/>
                  <a:pt x="6133" y="13325"/>
                  <a:pt x="6276" y="13370"/>
                </a:cubicBezTo>
                <a:cubicBezTo>
                  <a:pt x="6284" y="13386"/>
                  <a:pt x="6292" y="13403"/>
                  <a:pt x="6300" y="13419"/>
                </a:cubicBezTo>
                <a:cubicBezTo>
                  <a:pt x="6231" y="13573"/>
                  <a:pt x="6170" y="13670"/>
                  <a:pt x="6003" y="13742"/>
                </a:cubicBezTo>
                <a:cubicBezTo>
                  <a:pt x="6050" y="13712"/>
                  <a:pt x="6300" y="13568"/>
                  <a:pt x="6300" y="13742"/>
                </a:cubicBezTo>
                <a:cubicBezTo>
                  <a:pt x="6300" y="13928"/>
                  <a:pt x="6049" y="14008"/>
                  <a:pt x="5904" y="13990"/>
                </a:cubicBezTo>
                <a:cubicBezTo>
                  <a:pt x="5881" y="13967"/>
                  <a:pt x="5870" y="13959"/>
                  <a:pt x="5904" y="1396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2200" y="3598920"/>
            <a:ext cx="1349640" cy="714240"/>
          </a:xfrm>
          <a:custGeom>
            <a:avLst/>
            <a:gdLst/>
            <a:ahLst/>
            <a:rect l="l" t="t" r="r" b="b"/>
            <a:pathLst>
              <a:path w="3747" h="1986">
                <a:moveTo>
                  <a:pt x="10269" y="10046"/>
                </a:moveTo>
                <a:cubicBezTo>
                  <a:pt x="10288" y="10178"/>
                  <a:pt x="10304" y="10310"/>
                  <a:pt x="10319" y="10443"/>
                </a:cubicBezTo>
                <a:cubicBezTo>
                  <a:pt x="10325" y="10497"/>
                  <a:pt x="10271" y="10415"/>
                  <a:pt x="10244" y="10368"/>
                </a:cubicBezTo>
              </a:path>
              <a:path w="3747" h="1986">
                <a:moveTo>
                  <a:pt x="9897" y="10021"/>
                </a:moveTo>
                <a:cubicBezTo>
                  <a:pt x="10092" y="10006"/>
                  <a:pt x="10272" y="10016"/>
                  <a:pt x="10468" y="10021"/>
                </a:cubicBezTo>
                <a:cubicBezTo>
                  <a:pt x="10536" y="10021"/>
                  <a:pt x="10558" y="10016"/>
                  <a:pt x="10567" y="10071"/>
                </a:cubicBezTo>
              </a:path>
              <a:path w="3747" h="1986">
                <a:moveTo>
                  <a:pt x="10790" y="10319"/>
                </a:moveTo>
                <a:cubicBezTo>
                  <a:pt x="10790" y="10252"/>
                  <a:pt x="10763" y="10202"/>
                  <a:pt x="10666" y="10244"/>
                </a:cubicBezTo>
                <a:cubicBezTo>
                  <a:pt x="10576" y="10282"/>
                  <a:pt x="10449" y="10533"/>
                  <a:pt x="10641" y="10517"/>
                </a:cubicBezTo>
                <a:cubicBezTo>
                  <a:pt x="10763" y="10469"/>
                  <a:pt x="10804" y="10455"/>
                  <a:pt x="10790" y="10344"/>
                </a:cubicBezTo>
                <a:cubicBezTo>
                  <a:pt x="10790" y="10327"/>
                  <a:pt x="10790" y="10311"/>
                  <a:pt x="10790" y="10294"/>
                </a:cubicBezTo>
                <a:cubicBezTo>
                  <a:pt x="10790" y="10355"/>
                  <a:pt x="10762" y="10448"/>
                  <a:pt x="10815" y="10492"/>
                </a:cubicBezTo>
                <a:cubicBezTo>
                  <a:pt x="10943" y="10599"/>
                  <a:pt x="10998" y="10411"/>
                  <a:pt x="11038" y="10344"/>
                </a:cubicBezTo>
              </a:path>
              <a:path w="3747" h="1986">
                <a:moveTo>
                  <a:pt x="11088" y="10096"/>
                </a:moveTo>
                <a:cubicBezTo>
                  <a:pt x="11110" y="10230"/>
                  <a:pt x="11158" y="10361"/>
                  <a:pt x="11187" y="10492"/>
                </a:cubicBezTo>
                <a:cubicBezTo>
                  <a:pt x="11187" y="10544"/>
                  <a:pt x="11188" y="10559"/>
                  <a:pt x="11212" y="10492"/>
                </a:cubicBezTo>
              </a:path>
              <a:path w="3747" h="1986">
                <a:moveTo>
                  <a:pt x="11336" y="10071"/>
                </a:moveTo>
                <a:cubicBezTo>
                  <a:pt x="11351" y="10234"/>
                  <a:pt x="11405" y="10385"/>
                  <a:pt x="11435" y="10542"/>
                </a:cubicBezTo>
                <a:cubicBezTo>
                  <a:pt x="11435" y="10610"/>
                  <a:pt x="11432" y="10640"/>
                  <a:pt x="11460" y="10567"/>
                </a:cubicBezTo>
              </a:path>
              <a:path w="3747" h="1986">
                <a:moveTo>
                  <a:pt x="11633" y="10269"/>
                </a:moveTo>
                <a:cubicBezTo>
                  <a:pt x="11684" y="10391"/>
                  <a:pt x="11693" y="10575"/>
                  <a:pt x="11757" y="10542"/>
                </a:cubicBezTo>
              </a:path>
              <a:path w="3747" h="1986">
                <a:moveTo>
                  <a:pt x="11633" y="10195"/>
                </a:moveTo>
                <a:cubicBezTo>
                  <a:pt x="11609" y="10195"/>
                  <a:pt x="11601" y="10195"/>
                  <a:pt x="11633" y="10195"/>
                </a:cubicBezTo>
              </a:path>
              <a:path w="3747" h="1986">
                <a:moveTo>
                  <a:pt x="11956" y="10344"/>
                </a:moveTo>
                <a:cubicBezTo>
                  <a:pt x="12039" y="10344"/>
                  <a:pt x="12121" y="10344"/>
                  <a:pt x="12204" y="10344"/>
                </a:cubicBezTo>
                <a:cubicBezTo>
                  <a:pt x="12159" y="10246"/>
                  <a:pt x="12107" y="10155"/>
                  <a:pt x="12005" y="10269"/>
                </a:cubicBezTo>
                <a:cubicBezTo>
                  <a:pt x="11924" y="10359"/>
                  <a:pt x="11877" y="10551"/>
                  <a:pt x="12055" y="10567"/>
                </a:cubicBezTo>
                <a:cubicBezTo>
                  <a:pt x="12219" y="10582"/>
                  <a:pt x="12350" y="10408"/>
                  <a:pt x="12452" y="10319"/>
                </a:cubicBezTo>
              </a:path>
              <a:path w="3747" h="1986">
                <a:moveTo>
                  <a:pt x="12601" y="10220"/>
                </a:moveTo>
                <a:cubicBezTo>
                  <a:pt x="12525" y="10187"/>
                  <a:pt x="12433" y="10176"/>
                  <a:pt x="12378" y="10269"/>
                </a:cubicBezTo>
                <a:cubicBezTo>
                  <a:pt x="12378" y="10277"/>
                  <a:pt x="12378" y="10286"/>
                  <a:pt x="12378" y="10294"/>
                </a:cubicBezTo>
                <a:cubicBezTo>
                  <a:pt x="12483" y="10326"/>
                  <a:pt x="12591" y="10319"/>
                  <a:pt x="12700" y="10344"/>
                </a:cubicBezTo>
                <a:cubicBezTo>
                  <a:pt x="12641" y="10462"/>
                  <a:pt x="12550" y="10458"/>
                  <a:pt x="12427" y="10492"/>
                </a:cubicBezTo>
              </a:path>
              <a:path w="3747" h="1986">
                <a:moveTo>
                  <a:pt x="10120" y="10988"/>
                </a:moveTo>
                <a:cubicBezTo>
                  <a:pt x="10063" y="11086"/>
                  <a:pt x="10067" y="11343"/>
                  <a:pt x="10071" y="11460"/>
                </a:cubicBezTo>
                <a:cubicBezTo>
                  <a:pt x="10074" y="11563"/>
                  <a:pt x="10096" y="11654"/>
                  <a:pt x="10096" y="11757"/>
                </a:cubicBezTo>
              </a:path>
              <a:path w="3747" h="1986">
                <a:moveTo>
                  <a:pt x="10492" y="11038"/>
                </a:moveTo>
                <a:cubicBezTo>
                  <a:pt x="10418" y="11141"/>
                  <a:pt x="10509" y="11365"/>
                  <a:pt x="10517" y="11485"/>
                </a:cubicBezTo>
                <a:cubicBezTo>
                  <a:pt x="10523" y="11571"/>
                  <a:pt x="10542" y="11719"/>
                  <a:pt x="10542" y="11633"/>
                </a:cubicBezTo>
              </a:path>
              <a:path w="3747" h="1986">
                <a:moveTo>
                  <a:pt x="10840" y="11137"/>
                </a:moveTo>
                <a:cubicBezTo>
                  <a:pt x="10840" y="11020"/>
                  <a:pt x="10882" y="11318"/>
                  <a:pt x="10889" y="11435"/>
                </a:cubicBezTo>
                <a:cubicBezTo>
                  <a:pt x="10892" y="11481"/>
                  <a:pt x="10857" y="11920"/>
                  <a:pt x="10939" y="11733"/>
                </a:cubicBezTo>
              </a:path>
              <a:path w="3747" h="1986">
                <a:moveTo>
                  <a:pt x="11261" y="11137"/>
                </a:moveTo>
                <a:cubicBezTo>
                  <a:pt x="11291" y="11258"/>
                  <a:pt x="11309" y="11372"/>
                  <a:pt x="11311" y="11509"/>
                </a:cubicBezTo>
                <a:cubicBezTo>
                  <a:pt x="11312" y="11541"/>
                  <a:pt x="11304" y="11800"/>
                  <a:pt x="11336" y="11757"/>
                </a:cubicBezTo>
                <a:cubicBezTo>
                  <a:pt x="11344" y="11749"/>
                  <a:pt x="11353" y="11741"/>
                  <a:pt x="11361" y="11733"/>
                </a:cubicBezTo>
              </a:path>
              <a:path w="3747" h="1986">
                <a:moveTo>
                  <a:pt x="9971" y="10939"/>
                </a:moveTo>
                <a:cubicBezTo>
                  <a:pt x="10044" y="10968"/>
                  <a:pt x="10139" y="11014"/>
                  <a:pt x="10220" y="11038"/>
                </a:cubicBezTo>
                <a:cubicBezTo>
                  <a:pt x="10372" y="11083"/>
                  <a:pt x="10542" y="11083"/>
                  <a:pt x="10691" y="11137"/>
                </a:cubicBezTo>
                <a:cubicBezTo>
                  <a:pt x="10812" y="11181"/>
                  <a:pt x="10962" y="11257"/>
                  <a:pt x="11063" y="11336"/>
                </a:cubicBezTo>
                <a:cubicBezTo>
                  <a:pt x="11123" y="11382"/>
                  <a:pt x="11180" y="11437"/>
                  <a:pt x="11237" y="11485"/>
                </a:cubicBezTo>
                <a:cubicBezTo>
                  <a:pt x="11282" y="11524"/>
                  <a:pt x="11344" y="11551"/>
                  <a:pt x="11385" y="11584"/>
                </a:cubicBezTo>
                <a:cubicBezTo>
                  <a:pt x="11447" y="11635"/>
                  <a:pt x="11496" y="11697"/>
                  <a:pt x="11559" y="11733"/>
                </a:cubicBezTo>
                <a:cubicBezTo>
                  <a:pt x="11603" y="11754"/>
                  <a:pt x="11615" y="11757"/>
                  <a:pt x="11633" y="11782"/>
                </a:cubicBezTo>
              </a:path>
              <a:path w="3747" h="1986">
                <a:moveTo>
                  <a:pt x="12204" y="11187"/>
                </a:moveTo>
                <a:cubicBezTo>
                  <a:pt x="12204" y="11373"/>
                  <a:pt x="12238" y="11544"/>
                  <a:pt x="12229" y="11733"/>
                </a:cubicBezTo>
                <a:cubicBezTo>
                  <a:pt x="12224" y="11825"/>
                  <a:pt x="12167" y="11940"/>
                  <a:pt x="12229" y="11981"/>
                </a:cubicBezTo>
              </a:path>
              <a:path w="3747" h="1986">
                <a:moveTo>
                  <a:pt x="12898" y="11212"/>
                </a:moveTo>
                <a:cubicBezTo>
                  <a:pt x="12932" y="11428"/>
                  <a:pt x="13003" y="11659"/>
                  <a:pt x="12998" y="11881"/>
                </a:cubicBezTo>
                <a:cubicBezTo>
                  <a:pt x="12975" y="11949"/>
                  <a:pt x="12964" y="11981"/>
                  <a:pt x="12998" y="11906"/>
                </a:cubicBezTo>
              </a:path>
              <a:path w="3747" h="1986">
                <a:moveTo>
                  <a:pt x="11832" y="11137"/>
                </a:moveTo>
                <a:cubicBezTo>
                  <a:pt x="12005" y="11181"/>
                  <a:pt x="12167" y="11205"/>
                  <a:pt x="12328" y="11286"/>
                </a:cubicBezTo>
                <a:cubicBezTo>
                  <a:pt x="12594" y="11420"/>
                  <a:pt x="12836" y="11543"/>
                  <a:pt x="13122" y="11633"/>
                </a:cubicBezTo>
                <a:cubicBezTo>
                  <a:pt x="13265" y="11678"/>
                  <a:pt x="13415" y="11735"/>
                  <a:pt x="13543" y="11807"/>
                </a:cubicBezTo>
                <a:cubicBezTo>
                  <a:pt x="13557" y="11815"/>
                  <a:pt x="13573" y="11844"/>
                  <a:pt x="13593" y="11857"/>
                </a:cubicBezTo>
                <a:cubicBezTo>
                  <a:pt x="13655" y="11896"/>
                  <a:pt x="13611" y="11869"/>
                  <a:pt x="13643" y="1185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29160" y="3571920"/>
            <a:ext cx="1428840" cy="2036880"/>
          </a:xfrm>
          <a:custGeom>
            <a:avLst/>
            <a:gdLst/>
            <a:ahLst/>
            <a:rect l="l" t="t" r="r" b="b"/>
            <a:pathLst>
              <a:path w="3970" h="5656">
                <a:moveTo>
                  <a:pt x="15280" y="10071"/>
                </a:moveTo>
                <a:cubicBezTo>
                  <a:pt x="15280" y="9970"/>
                  <a:pt x="15293" y="10219"/>
                  <a:pt x="15304" y="10319"/>
                </a:cubicBezTo>
                <a:cubicBezTo>
                  <a:pt x="15322" y="10426"/>
                  <a:pt x="15330" y="10434"/>
                  <a:pt x="15329" y="10492"/>
                </a:cubicBezTo>
                <a:cubicBezTo>
                  <a:pt x="15202" y="10330"/>
                  <a:pt x="15143" y="10166"/>
                  <a:pt x="15081" y="9971"/>
                </a:cubicBezTo>
                <a:cubicBezTo>
                  <a:pt x="15135" y="9919"/>
                  <a:pt x="15284" y="9980"/>
                  <a:pt x="15379" y="9971"/>
                </a:cubicBezTo>
                <a:cubicBezTo>
                  <a:pt x="15513" y="9958"/>
                  <a:pt x="15571" y="9855"/>
                  <a:pt x="15602" y="9996"/>
                </a:cubicBezTo>
              </a:path>
              <a:path w="3970" h="5656">
                <a:moveTo>
                  <a:pt x="15205" y="10393"/>
                </a:moveTo>
                <a:cubicBezTo>
                  <a:pt x="15365" y="10338"/>
                  <a:pt x="15572" y="10268"/>
                  <a:pt x="15701" y="10294"/>
                </a:cubicBezTo>
                <a:cubicBezTo>
                  <a:pt x="15755" y="10305"/>
                  <a:pt x="15777" y="10432"/>
                  <a:pt x="15801" y="10492"/>
                </a:cubicBezTo>
                <a:cubicBezTo>
                  <a:pt x="15791" y="10411"/>
                  <a:pt x="15734" y="10257"/>
                  <a:pt x="15825" y="10195"/>
                </a:cubicBezTo>
                <a:cubicBezTo>
                  <a:pt x="15890" y="10173"/>
                  <a:pt x="15905" y="10165"/>
                  <a:pt x="15949" y="10170"/>
                </a:cubicBezTo>
              </a:path>
              <a:path w="3970" h="5656">
                <a:moveTo>
                  <a:pt x="16123" y="10294"/>
                </a:moveTo>
                <a:cubicBezTo>
                  <a:pt x="16216" y="10285"/>
                  <a:pt x="16301" y="10269"/>
                  <a:pt x="16396" y="10269"/>
                </a:cubicBezTo>
                <a:cubicBezTo>
                  <a:pt x="16334" y="10207"/>
                  <a:pt x="16163" y="10124"/>
                  <a:pt x="16098" y="10269"/>
                </a:cubicBezTo>
                <a:cubicBezTo>
                  <a:pt x="15982" y="10526"/>
                  <a:pt x="16276" y="10454"/>
                  <a:pt x="16371" y="10418"/>
                </a:cubicBezTo>
              </a:path>
              <a:path w="3970" h="5656">
                <a:moveTo>
                  <a:pt x="16594" y="10120"/>
                </a:moveTo>
                <a:cubicBezTo>
                  <a:pt x="16535" y="10163"/>
                  <a:pt x="16321" y="10421"/>
                  <a:pt x="16495" y="10492"/>
                </a:cubicBezTo>
                <a:cubicBezTo>
                  <a:pt x="16627" y="10546"/>
                  <a:pt x="16668" y="10337"/>
                  <a:pt x="16694" y="10269"/>
                </a:cubicBezTo>
                <a:cubicBezTo>
                  <a:pt x="16694" y="10244"/>
                  <a:pt x="16694" y="10236"/>
                  <a:pt x="16694" y="10269"/>
                </a:cubicBezTo>
                <a:cubicBezTo>
                  <a:pt x="16713" y="10492"/>
                  <a:pt x="16700" y="10713"/>
                  <a:pt x="16718" y="10939"/>
                </a:cubicBezTo>
                <a:cubicBezTo>
                  <a:pt x="16718" y="10990"/>
                  <a:pt x="16720" y="11006"/>
                  <a:pt x="16768" y="10964"/>
                </a:cubicBezTo>
                <a:cubicBezTo>
                  <a:pt x="16804" y="10792"/>
                  <a:pt x="16865" y="10630"/>
                  <a:pt x="16718" y="10492"/>
                </a:cubicBezTo>
                <a:cubicBezTo>
                  <a:pt x="16702" y="10484"/>
                  <a:pt x="16685" y="10476"/>
                  <a:pt x="16669" y="10468"/>
                </a:cubicBezTo>
              </a:path>
              <a:path w="3970" h="5656">
                <a:moveTo>
                  <a:pt x="16842" y="10170"/>
                </a:moveTo>
                <a:cubicBezTo>
                  <a:pt x="16872" y="10294"/>
                  <a:pt x="16883" y="10392"/>
                  <a:pt x="16966" y="10492"/>
                </a:cubicBezTo>
                <a:cubicBezTo>
                  <a:pt x="17092" y="10367"/>
                  <a:pt x="17081" y="10321"/>
                  <a:pt x="17066" y="10145"/>
                </a:cubicBezTo>
                <a:cubicBezTo>
                  <a:pt x="17066" y="10237"/>
                  <a:pt x="17075" y="10333"/>
                  <a:pt x="17115" y="10418"/>
                </a:cubicBezTo>
                <a:cubicBezTo>
                  <a:pt x="17123" y="10426"/>
                  <a:pt x="17132" y="10435"/>
                  <a:pt x="17140" y="10443"/>
                </a:cubicBezTo>
              </a:path>
              <a:path w="3970" h="5656">
                <a:moveTo>
                  <a:pt x="17363" y="10269"/>
                </a:moveTo>
                <a:cubicBezTo>
                  <a:pt x="17440" y="10256"/>
                  <a:pt x="17514" y="10243"/>
                  <a:pt x="17587" y="10220"/>
                </a:cubicBezTo>
                <a:cubicBezTo>
                  <a:pt x="17518" y="10104"/>
                  <a:pt x="17415" y="10086"/>
                  <a:pt x="17338" y="10220"/>
                </a:cubicBezTo>
                <a:cubicBezTo>
                  <a:pt x="17229" y="10409"/>
                  <a:pt x="17467" y="10511"/>
                  <a:pt x="17611" y="10418"/>
                </a:cubicBezTo>
                <a:cubicBezTo>
                  <a:pt x="17690" y="10367"/>
                  <a:pt x="17785" y="10121"/>
                  <a:pt x="17785" y="10220"/>
                </a:cubicBezTo>
                <a:cubicBezTo>
                  <a:pt x="17785" y="10297"/>
                  <a:pt x="17796" y="10340"/>
                  <a:pt x="17835" y="10393"/>
                </a:cubicBezTo>
                <a:cubicBezTo>
                  <a:pt x="17835" y="10401"/>
                  <a:pt x="17835" y="10410"/>
                  <a:pt x="17835" y="10418"/>
                </a:cubicBezTo>
                <a:cubicBezTo>
                  <a:pt x="17819" y="10305"/>
                  <a:pt x="17805" y="10230"/>
                  <a:pt x="17835" y="10120"/>
                </a:cubicBezTo>
                <a:cubicBezTo>
                  <a:pt x="17999" y="10146"/>
                  <a:pt x="18082" y="10212"/>
                  <a:pt x="18157" y="10368"/>
                </a:cubicBezTo>
                <a:cubicBezTo>
                  <a:pt x="18157" y="10403"/>
                  <a:pt x="18162" y="10402"/>
                  <a:pt x="18182" y="10344"/>
                </a:cubicBezTo>
              </a:path>
              <a:path w="3970" h="5656">
                <a:moveTo>
                  <a:pt x="18455" y="10096"/>
                </a:moveTo>
                <a:cubicBezTo>
                  <a:pt x="18382" y="10072"/>
                  <a:pt x="18358" y="10063"/>
                  <a:pt x="18306" y="10071"/>
                </a:cubicBezTo>
                <a:cubicBezTo>
                  <a:pt x="18267" y="10188"/>
                  <a:pt x="18180" y="10540"/>
                  <a:pt x="18455" y="10393"/>
                </a:cubicBezTo>
                <a:cubicBezTo>
                  <a:pt x="18554" y="10340"/>
                  <a:pt x="18618" y="10215"/>
                  <a:pt x="18653" y="10120"/>
                </a:cubicBezTo>
                <a:cubicBezTo>
                  <a:pt x="18658" y="10173"/>
                  <a:pt x="18685" y="10437"/>
                  <a:pt x="18827" y="10319"/>
                </a:cubicBezTo>
                <a:cubicBezTo>
                  <a:pt x="18923" y="10239"/>
                  <a:pt x="18924" y="10115"/>
                  <a:pt x="18901" y="10021"/>
                </a:cubicBezTo>
                <a:cubicBezTo>
                  <a:pt x="18942" y="10196"/>
                  <a:pt x="19070" y="10400"/>
                  <a:pt x="19050" y="10592"/>
                </a:cubicBezTo>
                <a:cubicBezTo>
                  <a:pt x="19036" y="10727"/>
                  <a:pt x="18836" y="10788"/>
                  <a:pt x="18728" y="10740"/>
                </a:cubicBezTo>
                <a:cubicBezTo>
                  <a:pt x="18728" y="10732"/>
                  <a:pt x="18728" y="10724"/>
                  <a:pt x="18728" y="10716"/>
                </a:cubicBezTo>
              </a:path>
              <a:path w="3970" h="5656">
                <a:moveTo>
                  <a:pt x="16942" y="11460"/>
                </a:moveTo>
                <a:cubicBezTo>
                  <a:pt x="16939" y="11564"/>
                  <a:pt x="16844" y="11964"/>
                  <a:pt x="16966" y="11881"/>
                </a:cubicBezTo>
              </a:path>
              <a:path w="3970" h="5656">
                <a:moveTo>
                  <a:pt x="17388" y="11212"/>
                </a:moveTo>
                <a:cubicBezTo>
                  <a:pt x="17326" y="11335"/>
                  <a:pt x="17306" y="11542"/>
                  <a:pt x="17338" y="11683"/>
                </a:cubicBezTo>
                <a:cubicBezTo>
                  <a:pt x="17355" y="11716"/>
                  <a:pt x="17371" y="11749"/>
                  <a:pt x="17388" y="11782"/>
                </a:cubicBezTo>
                <a:cubicBezTo>
                  <a:pt x="17523" y="11792"/>
                  <a:pt x="17714" y="11708"/>
                  <a:pt x="17661" y="11509"/>
                </a:cubicBezTo>
                <a:cubicBezTo>
                  <a:pt x="17595" y="11265"/>
                  <a:pt x="17407" y="11277"/>
                  <a:pt x="17239" y="11361"/>
                </a:cubicBezTo>
              </a:path>
              <a:path w="3970" h="5656">
                <a:moveTo>
                  <a:pt x="17338" y="13667"/>
                </a:moveTo>
                <a:cubicBezTo>
                  <a:pt x="17274" y="13646"/>
                  <a:pt x="17382" y="13569"/>
                  <a:pt x="17413" y="13543"/>
                </a:cubicBezTo>
                <a:cubicBezTo>
                  <a:pt x="17494" y="13483"/>
                  <a:pt x="17507" y="13468"/>
                  <a:pt x="17562" y="13444"/>
                </a:cubicBezTo>
                <a:cubicBezTo>
                  <a:pt x="17562" y="13575"/>
                  <a:pt x="17567" y="13641"/>
                  <a:pt x="17438" y="13717"/>
                </a:cubicBezTo>
                <a:cubicBezTo>
                  <a:pt x="17430" y="13717"/>
                  <a:pt x="17421" y="13717"/>
                  <a:pt x="17413" y="13717"/>
                </a:cubicBezTo>
                <a:cubicBezTo>
                  <a:pt x="17512" y="13717"/>
                  <a:pt x="17547" y="13722"/>
                  <a:pt x="17636" y="13767"/>
                </a:cubicBezTo>
                <a:cubicBezTo>
                  <a:pt x="17586" y="13917"/>
                  <a:pt x="17507" y="13937"/>
                  <a:pt x="17338" y="13965"/>
                </a:cubicBezTo>
              </a:path>
              <a:path w="3970" h="5656">
                <a:moveTo>
                  <a:pt x="17686" y="14908"/>
                </a:moveTo>
                <a:cubicBezTo>
                  <a:pt x="17659" y="14872"/>
                  <a:pt x="17669" y="14869"/>
                  <a:pt x="17636" y="14858"/>
                </a:cubicBezTo>
                <a:cubicBezTo>
                  <a:pt x="17636" y="14746"/>
                  <a:pt x="17600" y="15020"/>
                  <a:pt x="17587" y="15131"/>
                </a:cubicBezTo>
                <a:cubicBezTo>
                  <a:pt x="17566" y="15313"/>
                  <a:pt x="17573" y="15407"/>
                  <a:pt x="17587" y="1557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10080" y="4037040"/>
            <a:ext cx="54000" cy="268200"/>
          </a:xfrm>
          <a:custGeom>
            <a:avLst/>
            <a:gdLst/>
            <a:ahLst/>
            <a:rect l="l" t="t" r="r" b="b"/>
            <a:pathLst>
              <a:path w="150" h="745">
                <a:moveTo>
                  <a:pt x="12526" y="11212"/>
                </a:moveTo>
                <a:cubicBezTo>
                  <a:pt x="12608" y="11439"/>
                  <a:pt x="12601" y="11641"/>
                  <a:pt x="12601" y="11881"/>
                </a:cubicBezTo>
                <a:cubicBezTo>
                  <a:pt x="12601" y="11972"/>
                  <a:pt x="12611" y="11984"/>
                  <a:pt x="12675" y="1185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9840" y="4037040"/>
            <a:ext cx="63360" cy="241200"/>
          </a:xfrm>
          <a:custGeom>
            <a:avLst/>
            <a:gdLst/>
            <a:ahLst/>
            <a:rect l="l" t="t" r="r" b="b"/>
            <a:pathLst>
              <a:path w="175" h="670">
                <a:moveTo>
                  <a:pt x="13196" y="11237"/>
                </a:moveTo>
                <a:cubicBezTo>
                  <a:pt x="13328" y="11138"/>
                  <a:pt x="13315" y="11572"/>
                  <a:pt x="13320" y="11609"/>
                </a:cubicBezTo>
                <a:cubicBezTo>
                  <a:pt x="13349" y="11807"/>
                  <a:pt x="13447" y="11980"/>
                  <a:pt x="13246" y="1173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2040" y="442908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7363" y="12303"/>
                </a:moveTo>
                <a:cubicBezTo>
                  <a:pt x="17384" y="12450"/>
                  <a:pt x="17335" y="12553"/>
                  <a:pt x="17338" y="12700"/>
                </a:cubicBezTo>
                <a:cubicBezTo>
                  <a:pt x="17342" y="12880"/>
                  <a:pt x="17383" y="12953"/>
                  <a:pt x="17562" y="12898"/>
                </a:cubicBezTo>
                <a:cubicBezTo>
                  <a:pt x="17701" y="12856"/>
                  <a:pt x="17716" y="12768"/>
                  <a:pt x="17760" y="12650"/>
                </a:cubicBezTo>
                <a:cubicBezTo>
                  <a:pt x="17639" y="12631"/>
                  <a:pt x="17558" y="12598"/>
                  <a:pt x="17512" y="12750"/>
                </a:cubicBezTo>
                <a:cubicBezTo>
                  <a:pt x="17512" y="12832"/>
                  <a:pt x="17512" y="12849"/>
                  <a:pt x="17512" y="1289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32240" y="2143080"/>
            <a:ext cx="3135600" cy="571680"/>
          </a:xfrm>
          <a:custGeom>
            <a:avLst/>
            <a:gdLst/>
            <a:ahLst/>
            <a:rect l="l" t="t" r="r" b="b"/>
            <a:pathLst>
              <a:path w="8707" h="1589">
                <a:moveTo>
                  <a:pt x="15429" y="6226"/>
                </a:moveTo>
                <a:cubicBezTo>
                  <a:pt x="15168" y="6567"/>
                  <a:pt x="14897" y="6901"/>
                  <a:pt x="14635" y="7243"/>
                </a:cubicBezTo>
                <a:cubicBezTo>
                  <a:pt x="14570" y="7328"/>
                  <a:pt x="14533" y="7384"/>
                  <a:pt x="14560" y="7466"/>
                </a:cubicBezTo>
              </a:path>
              <a:path w="8707" h="1589">
                <a:moveTo>
                  <a:pt x="16793" y="6325"/>
                </a:moveTo>
                <a:cubicBezTo>
                  <a:pt x="16570" y="6629"/>
                  <a:pt x="16308" y="6907"/>
                  <a:pt x="16098" y="7218"/>
                </a:cubicBezTo>
                <a:cubicBezTo>
                  <a:pt x="16090" y="7235"/>
                  <a:pt x="16081" y="7251"/>
                  <a:pt x="16073" y="7268"/>
                </a:cubicBezTo>
              </a:path>
              <a:path w="8707" h="1589">
                <a:moveTo>
                  <a:pt x="18455" y="6052"/>
                </a:moveTo>
                <a:cubicBezTo>
                  <a:pt x="18272" y="6294"/>
                  <a:pt x="18079" y="6591"/>
                  <a:pt x="17884" y="6846"/>
                </a:cubicBezTo>
                <a:cubicBezTo>
                  <a:pt x="17750" y="7021"/>
                  <a:pt x="17602" y="7174"/>
                  <a:pt x="17462" y="7342"/>
                </a:cubicBezTo>
              </a:path>
              <a:path w="8707" h="1589">
                <a:moveTo>
                  <a:pt x="19968" y="6152"/>
                </a:moveTo>
                <a:cubicBezTo>
                  <a:pt x="19728" y="6411"/>
                  <a:pt x="19546" y="6769"/>
                  <a:pt x="19298" y="7045"/>
                </a:cubicBezTo>
                <a:cubicBezTo>
                  <a:pt x="19144" y="7215"/>
                  <a:pt x="18983" y="7355"/>
                  <a:pt x="18802" y="7491"/>
                </a:cubicBezTo>
              </a:path>
              <a:path w="8707" h="1589">
                <a:moveTo>
                  <a:pt x="21506" y="5978"/>
                </a:moveTo>
                <a:cubicBezTo>
                  <a:pt x="21531" y="5970"/>
                  <a:pt x="21555" y="5961"/>
                  <a:pt x="21580" y="5953"/>
                </a:cubicBezTo>
                <a:cubicBezTo>
                  <a:pt x="21507" y="6068"/>
                  <a:pt x="21394" y="6242"/>
                  <a:pt x="21307" y="6350"/>
                </a:cubicBezTo>
                <a:cubicBezTo>
                  <a:pt x="21063" y="6654"/>
                  <a:pt x="20849" y="6952"/>
                  <a:pt x="20563" y="7218"/>
                </a:cubicBezTo>
              </a:path>
              <a:path w="8707" h="1589">
                <a:moveTo>
                  <a:pt x="23242" y="6226"/>
                </a:moveTo>
                <a:cubicBezTo>
                  <a:pt x="22893" y="6360"/>
                  <a:pt x="22566" y="6829"/>
                  <a:pt x="22299" y="7094"/>
                </a:cubicBezTo>
                <a:cubicBezTo>
                  <a:pt x="22051" y="7342"/>
                  <a:pt x="22002" y="7392"/>
                  <a:pt x="21853" y="754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Table BC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demcgra</cp:lastModifiedBy>
  <dcterms:modified xsi:type="dcterms:W3CDTF">2012-03-05T17:35:51Z</dcterms:modified>
  <cp:revision>17</cp:revision>
  <dc:subject/>
  <dc:title>Opener</dc:title>
</cp:coreProperties>
</file>